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24.wmf" ContentType="image/x-wmf"/>
  <Override PartName="/ppt/media/image23.png" ContentType="image/png"/>
  <Override PartName="/ppt/media/image22.wmf" ContentType="image/x-wmf"/>
  <Override PartName="/ppt/media/image6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5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A79A-A5B6-4505-9E0E-C663987FC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6AF7-FE82-4E19-8BFD-C6F61D6A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00F0-3BD7-427D-A5DC-C05A18322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35F3-FC98-4470-8200-18745B46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41BE-5B74-4F8E-9CCE-CECD2449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A7DF-866D-40F9-B696-70854486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F926-1D25-4B09-9AF7-E14D65FE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5FB2-0103-4968-A7A1-D2669373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4019-A579-4955-BB07-3535976F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A00C-091E-4E6B-92BA-486E35B5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D5A4-2CF4-4A6F-8031-51D7C247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E03E-1C4C-47DD-B95C-AC0CDD59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FF2D-E21F-4EF6-B750-D2EF1B18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C4D3-EF95-4F97-8C04-C8335A35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4306-B5DB-4663-9554-A1F45B71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389A-891F-4378-9DFC-5901B60BB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861C-358D-4368-8DEC-0BFA3D77A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DDBF5-4DF1-410D-B7AA-61D8EBC35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30AAF-D5BF-46AE-8FB5-F16ED569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10B73-2898-4619-B59C-D220206A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43555-E033-4E50-B144-BB7E0CDB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A342A-FC26-44A5-9EE9-F318421A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DFE2-402E-4423-B5AC-09FB9BDF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85C6E-EC47-4B7A-9AED-BBF4254B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C8185-F317-46E9-ABC8-DC017E01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2AC53-5923-4F8F-8BC8-81E80A1C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97E17-344D-4DA2-BAC8-5E27697E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61C30-2ED4-49D3-91B8-37342C30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B6092-B6E4-446B-9B99-CC2404575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29953-B07A-423F-9BFC-4DD48F4D6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335C5-32B5-4730-8595-64E01978F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6743D-BF78-412C-80B8-1DC21C72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238CB-ECDE-4C05-95FD-EE2E0B1F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3B44-6C41-47EA-B319-4D481A50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AD3F2-D9D7-49EC-9003-0083E509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A8057-7ACE-4956-A0A1-D40DBD9F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36C6D-53A6-4B59-A89B-F5345AFB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94784-D07C-4971-9085-464F8397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DF647-C019-4BA5-B31A-26BE6CE9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872AA-5B10-413C-A060-AB1E1E86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BF1DE-F444-4AA4-8D3B-E768BF4A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35FEC-7BF5-4F00-A195-44F6D84D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CE59E-C262-407A-B6B7-E60EDB88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D98B0-FED3-48A0-9305-E9A03D6F8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315E-9BCF-4D21-A2FC-87D677EC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C2EED-E14B-4C9D-AE35-9A7FD0C9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32657-6799-45B2-8278-963CE225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D8D25-5599-4F72-A00C-99404B8E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DC4E0-294A-4ABC-AD11-FF4B12E3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55F5D-4882-443F-A887-2DA0DDD8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5E405-F1ED-4A15-A64A-F2368807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7ABC6-B58B-48D8-A5F3-7E604664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5B4D7-F5CD-433F-863D-F2C95B96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C47D2-2047-4411-AEF0-E5E9ACF9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9CDBF-729F-4A89-B4C7-340BCFABC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1EA1-F490-4C94-A4B7-70427DA2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A5C50-F31D-4BA8-B8ED-9522C488A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37CFE-4C4F-4C0D-ADE9-41C134CD5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BB59C-95FA-4256-8FC5-CC319326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46C27-DC79-4887-B2AF-52F4AB89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0EED5-2AE6-4CC2-92E0-0AB55D4C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23767-311D-4473-A430-031D1738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0526C-92D0-4147-AAD4-96B0C6B7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E2A81-C298-4539-8E96-0E08D529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FB655-4499-4E23-8127-4E9E1882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2B48D-AC89-4D05-94F2-9D521C49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1172-5E44-4D90-B454-1BD4D608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860F5-A54C-4F7A-9270-0C144D6A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AE23F-FA8F-474A-9E76-D29BE3BA0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12671-E8F1-49D3-AD73-0AC65AD14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F8163-7886-4035-81BE-8D8E20231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13CC1-AFDE-4D14-A1F0-3239BA7D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19B40-3AF5-40C9-BBEB-9C5E6F6B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68884-E75C-4821-A466-B6FB5A74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23CB8-9D51-4E29-8B30-D8935BE6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F318D-8908-40BB-994F-7A04E2B2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CBE41-5AE5-43D1-ACC7-AC237699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BC4D-B883-408E-89BA-435CE89C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BC96F-C311-45E0-8D82-3FCC3264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0CFF2-1C8A-4266-A6D0-B4BB81ED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42423-0D6E-4F16-85CB-01EBEF7F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C5AD6-CF35-4907-99D7-F9517CFD9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3C862-51C6-4BED-8EE0-2C5A8C688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CCF1-6DF6-42FF-A1F6-D2FC142D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27C0-7921-41E0-8ADE-63F01B8EA553}" type="slidenum">
              <a:rPr b="0" lang="es-E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8514-C7A6-4C00-A395-F6916CFE127F}" type="slidenum">
              <a:rPr b="0" lang="es-E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9852-CD53-4266-AD13-1D99C6432BAE}" type="slidenum">
              <a:rPr b="0" lang="es-E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EF3D-8F27-46A5-A6A1-45D3B55939A2}" type="slidenum">
              <a:rPr b="0" lang="es-E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D346-2346-4385-9740-EE0A92E61743}" type="slidenum">
              <a:rPr b="0" lang="es-E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70A3-DC29-46CF-BFC2-3CF8C7466685}" type="slidenum">
              <a:rPr b="0" lang="es-E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B0D2-B30C-4843-B014-89322DBDD2D1}" type="slidenum">
              <a:rPr b="0" lang="es-E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2.wmf"/><Relationship Id="rId4" Type="http://schemas.openxmlformats.org/officeDocument/2006/relationships/image" Target="../media/image22.wmf"/><Relationship Id="rId5" Type="http://schemas.openxmlformats.org/officeDocument/2006/relationships/image" Target="../media/image22.wmf"/><Relationship Id="rId6" Type="http://schemas.openxmlformats.org/officeDocument/2006/relationships/image" Target="../media/image22.wmf"/><Relationship Id="rId7" Type="http://schemas.openxmlformats.org/officeDocument/2006/relationships/image" Target="../media/image22.wmf"/><Relationship Id="rId8" Type="http://schemas.openxmlformats.org/officeDocument/2006/relationships/image" Target="../media/image22.wmf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826920" y="2276280"/>
            <a:ext cx="745344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584d3"/>
                </a:solidFill>
                <a:latin typeface="Candara"/>
              </a:rPr>
              <a:t>CITOCROMOS</a:t>
            </a:r>
            <a:r>
              <a:rPr b="0" lang="es-ES" sz="2800" spc="-1" strike="noStrike">
                <a:solidFill>
                  <a:srgbClr val="073e87"/>
                </a:solidFill>
                <a:latin typeface="Candara"/>
              </a:rPr>
              <a:t>: Sistemas de transporte de electron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584d3"/>
                </a:solidFill>
                <a:latin typeface="Candara"/>
              </a:rPr>
              <a:t>MIOGLOBINA</a:t>
            </a:r>
            <a:r>
              <a:rPr b="0" lang="es-ES" sz="2800" spc="-1" strike="noStrike">
                <a:solidFill>
                  <a:srgbClr val="073e87"/>
                </a:solidFill>
                <a:latin typeface="Candara"/>
              </a:rPr>
              <a:t>: Reserva de oxígeno en músculo esquelético y cardíaco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584d3"/>
                </a:solidFill>
                <a:latin typeface="Candara"/>
              </a:rPr>
              <a:t>HEMOGLOBINA</a:t>
            </a:r>
            <a:r>
              <a:rPr b="0" lang="es-ES" sz="2800" spc="-1" strike="noStrike">
                <a:solidFill>
                  <a:srgbClr val="073e87"/>
                </a:solidFill>
                <a:latin typeface="Candara"/>
              </a:rPr>
              <a:t>: Transporte de Oxígeno a los tejidos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solidFill>
            <a:srgbClr val="b7cdc5"/>
          </a:solidFill>
          <a:ln w="9360">
            <a:solidFill>
              <a:srgbClr val="008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ndara"/>
              </a:rPr>
              <a:t>Importancia del Hemo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73e87"/>
                </a:solidFill>
                <a:latin typeface="Candara"/>
              </a:rPr>
              <a:t>Tiene lugar en células del SRE: Hígado, bazo y médula ósea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73e87"/>
                </a:solidFill>
                <a:latin typeface="Candara"/>
              </a:rPr>
              <a:t>Se transporta al hígado unida a haptoglobina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73e87"/>
                </a:solidFill>
                <a:latin typeface="Candara"/>
              </a:rPr>
              <a:t>La globina se degrada a aminoácidos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73e87"/>
                </a:solidFill>
                <a:latin typeface="Candara"/>
              </a:rPr>
              <a:t>El Hemo se convierte en pigmentos biliares: Bilirrubina y Biliverdina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solidFill>
            <a:srgbClr val="5eae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ndara"/>
              </a:rPr>
              <a:t>DEGRADACION DE HEMOGLOBINA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5"/>
          <p:cNvSpPr/>
          <p:nvPr/>
        </p:nvSpPr>
        <p:spPr>
          <a:xfrm>
            <a:off x="684360" y="3357720"/>
            <a:ext cx="143964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H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3059280" y="1916280"/>
            <a:ext cx="1009440" cy="520560"/>
          </a:xfrm>
          <a:prstGeom prst="rect">
            <a:avLst/>
          </a:prstGeom>
          <a:solidFill>
            <a:srgbClr val="f2f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2411280" y="4941720"/>
            <a:ext cx="3313080" cy="520560"/>
          </a:xfrm>
          <a:prstGeom prst="rect">
            <a:avLst/>
          </a:prstGeom>
          <a:solidFill>
            <a:srgbClr val="f2f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Protoporfirina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8"/>
          <p:cNvSpPr/>
          <p:nvPr/>
        </p:nvSpPr>
        <p:spPr>
          <a:xfrm>
            <a:off x="4643280" y="1125360"/>
            <a:ext cx="1729080" cy="45972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Recicl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4643280" y="2852640"/>
            <a:ext cx="2160720" cy="45972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lmace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0"/>
          <p:cNvSpPr/>
          <p:nvPr/>
        </p:nvSpPr>
        <p:spPr>
          <a:xfrm>
            <a:off x="7704000" y="2852640"/>
            <a:ext cx="1440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584d3"/>
                </a:solidFill>
                <a:latin typeface="Arial"/>
                <a:ea typeface="Arial"/>
              </a:rPr>
              <a:t>Ferri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6659640" y="5516640"/>
            <a:ext cx="21603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584d3"/>
                </a:solidFill>
                <a:latin typeface="Arial"/>
                <a:ea typeface="Arial"/>
              </a:rPr>
              <a:t>Estercobi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584d3"/>
                </a:solidFill>
                <a:latin typeface="Arial"/>
                <a:ea typeface="Arial"/>
              </a:rPr>
              <a:t>Urobi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2"/>
          <p:cNvSpPr/>
          <p:nvPr/>
        </p:nvSpPr>
        <p:spPr>
          <a:xfrm>
            <a:off x="6372360" y="4005360"/>
            <a:ext cx="1728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584d3"/>
                </a:solidFill>
                <a:latin typeface="Arial"/>
                <a:ea typeface="Arial"/>
              </a:rPr>
              <a:t>Bilirrub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4" descr="ARRWC031"/>
          <p:cNvPicPr/>
          <p:nvPr/>
        </p:nvPicPr>
        <p:blipFill>
          <a:blip r:embed="rId2"/>
          <a:stretch/>
        </p:blipFill>
        <p:spPr>
          <a:xfrm rot="2844000">
            <a:off x="2117880" y="3933720"/>
            <a:ext cx="1366920" cy="6811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5" descr="ARRWC031"/>
          <p:cNvPicPr/>
          <p:nvPr/>
        </p:nvPicPr>
        <p:blipFill>
          <a:blip r:embed="rId3"/>
          <a:stretch/>
        </p:blipFill>
        <p:spPr>
          <a:xfrm rot="18587400">
            <a:off x="2124000" y="2707920"/>
            <a:ext cx="1366920" cy="680760"/>
          </a:xfrm>
          <a:prstGeom prst="rect">
            <a:avLst/>
          </a:prstGeom>
          <a:ln w="0">
            <a:noFill/>
          </a:ln>
        </p:spPr>
      </p:pic>
      <p:sp>
        <p:nvSpPr>
          <p:cNvPr id="422" name="Line 16"/>
          <p:cNvSpPr/>
          <p:nvPr/>
        </p:nvSpPr>
        <p:spPr>
          <a:xfrm flipV="1">
            <a:off x="4211640" y="1628640"/>
            <a:ext cx="792000" cy="432000"/>
          </a:xfrm>
          <a:prstGeom prst="line">
            <a:avLst/>
          </a:prstGeom>
          <a:ln w="69840">
            <a:solidFill>
              <a:srgbClr val="ff33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7"/>
          <p:cNvSpPr/>
          <p:nvPr/>
        </p:nvSpPr>
        <p:spPr>
          <a:xfrm>
            <a:off x="4255200" y="2300040"/>
            <a:ext cx="776520" cy="459360"/>
          </a:xfrm>
          <a:prstGeom prst="line">
            <a:avLst/>
          </a:prstGeom>
          <a:ln w="69840">
            <a:solidFill>
              <a:srgbClr val="ff33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8"/>
          <p:cNvSpPr/>
          <p:nvPr/>
        </p:nvSpPr>
        <p:spPr>
          <a:xfrm>
            <a:off x="6948360" y="3068640"/>
            <a:ext cx="50328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9"/>
          <p:cNvSpPr/>
          <p:nvPr/>
        </p:nvSpPr>
        <p:spPr>
          <a:xfrm flipV="1">
            <a:off x="5796000" y="4581360"/>
            <a:ext cx="792000" cy="432000"/>
          </a:xfrm>
          <a:prstGeom prst="line">
            <a:avLst/>
          </a:prstGeom>
          <a:ln w="69840">
            <a:solidFill>
              <a:srgbClr val="ff33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20"/>
          <p:cNvSpPr/>
          <p:nvPr/>
        </p:nvSpPr>
        <p:spPr>
          <a:xfrm>
            <a:off x="7704000" y="4582080"/>
            <a:ext cx="135360" cy="713520"/>
          </a:xfrm>
          <a:prstGeom prst="line">
            <a:avLst/>
          </a:prstGeom>
          <a:ln w="69840">
            <a:solidFill>
              <a:srgbClr val="ff33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539640" y="1844640"/>
            <a:ext cx="8136000" cy="43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584d3"/>
                </a:solidFill>
                <a:latin typeface="Candara"/>
              </a:rPr>
              <a:t>ETAPA DEL SRE</a:t>
            </a: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: Hb     </a:t>
            </a: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Bilirrubina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584d3"/>
                </a:solidFill>
                <a:latin typeface="Candara"/>
              </a:rPr>
              <a:t>ETAPA HEPATICA</a:t>
            </a: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:  Conjugación de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                                      </a:t>
            </a: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Bilirrubina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584d3"/>
                </a:solidFill>
                <a:latin typeface="Candara"/>
              </a:rPr>
              <a:t>ETAPA INTESTINAL</a:t>
            </a: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: Reducción de         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                                  </a:t>
            </a: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bilirrubina y producción     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                                 </a:t>
            </a: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de estercobilinógeno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gradFill rotWithShape="0">
            <a:gsLst>
              <a:gs pos="0">
                <a:srgbClr val="2c5176"/>
              </a:gs>
              <a:gs pos="50000">
                <a:srgbClr val="5eaeff"/>
              </a:gs>
              <a:gs pos="100000">
                <a:srgbClr val="2c51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ndara"/>
              </a:rPr>
              <a:t>DEGRADACION DEL HEMO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9" name="Line 4"/>
          <p:cNvSpPr/>
          <p:nvPr/>
        </p:nvSpPr>
        <p:spPr>
          <a:xfrm>
            <a:off x="4356000" y="213372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gradFill rotWithShape="0">
            <a:gsLst>
              <a:gs pos="0">
                <a:srgbClr val="2c5176"/>
              </a:gs>
              <a:gs pos="50000">
                <a:srgbClr val="5eaeff"/>
              </a:gs>
              <a:gs pos="100000">
                <a:srgbClr val="2c51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ndara"/>
              </a:rPr>
              <a:t>ETAPA EN EL  SRE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1" name="Text Box 16"/>
          <p:cNvSpPr/>
          <p:nvPr/>
        </p:nvSpPr>
        <p:spPr>
          <a:xfrm>
            <a:off x="7272360" y="1730520"/>
            <a:ext cx="1150920" cy="36828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lob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7"/>
          <p:cNvSpPr/>
          <p:nvPr/>
        </p:nvSpPr>
        <p:spPr>
          <a:xfrm>
            <a:off x="7145280" y="2548080"/>
            <a:ext cx="1657440" cy="88884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minoácidos (reutiliza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8"/>
          <p:cNvSpPr/>
          <p:nvPr/>
        </p:nvSpPr>
        <p:spPr>
          <a:xfrm>
            <a:off x="4714920" y="1839960"/>
            <a:ext cx="21607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Hemoglob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9"/>
          <p:cNvSpPr/>
          <p:nvPr/>
        </p:nvSpPr>
        <p:spPr>
          <a:xfrm>
            <a:off x="4559400" y="2832120"/>
            <a:ext cx="187164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tras hemo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21"/>
          <p:cNvSpPr/>
          <p:nvPr/>
        </p:nvSpPr>
        <p:spPr>
          <a:xfrm>
            <a:off x="4356000" y="5300640"/>
            <a:ext cx="0" cy="693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23"/>
          <p:cNvSpPr/>
          <p:nvPr/>
        </p:nvSpPr>
        <p:spPr>
          <a:xfrm>
            <a:off x="5364000" y="5207040"/>
            <a:ext cx="1511640" cy="549360"/>
          </a:xfrm>
          <a:prstGeom prst="ellipse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NADPH + H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24"/>
          <p:cNvSpPr/>
          <p:nvPr/>
        </p:nvSpPr>
        <p:spPr>
          <a:xfrm>
            <a:off x="5651640" y="5823000"/>
            <a:ext cx="936360" cy="549360"/>
          </a:xfrm>
          <a:prstGeom prst="ellipse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NADP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25"/>
          <p:cNvSpPr/>
          <p:nvPr/>
        </p:nvSpPr>
        <p:spPr>
          <a:xfrm flipH="1" rot="15221400">
            <a:off x="4728240" y="5486040"/>
            <a:ext cx="652680" cy="754200"/>
          </a:xfrm>
          <a:custGeom>
            <a:avLst/>
            <a:gdLst>
              <a:gd name="textAreaLeft" fmla="*/ 76680 w 652680"/>
              <a:gd name="textAreaRight" fmla="*/ 460440 w 652680"/>
              <a:gd name="textAreaTop" fmla="*/ 100800 h 754200"/>
              <a:gd name="textAreaBottom" fmla="*/ 653400 h 754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5108" hR="21600" stAng="10800000" swAng="5400000"/>
                <a:lnTo>
                  <a:pt x="12698" y="0"/>
                </a:lnTo>
                <a:arcTo wR="5108" hR="21600" stAng="-5400000" swAng="2285833"/>
                <a:lnTo>
                  <a:pt x="21382" y="15363"/>
                </a:lnTo>
                <a:lnTo>
                  <a:pt x="14010" y="21600"/>
                </a:lnTo>
                <a:lnTo>
                  <a:pt x="6202" y="15363"/>
                </a:lnTo>
                <a:lnTo>
                  <a:pt x="9997" y="15363"/>
                </a:lnTo>
                <a:arcTo wR="5108" hR="21600" stAng="-3114167" swAng="-1403274"/>
                <a:lnTo>
                  <a:pt x="8903" y="7144"/>
                </a:lnTo>
                <a:arcTo wR="5108" hR="21600" stAng="-6282559" swAng="-4517441"/>
                <a:close/>
              </a:path>
              <a:path fill="darkenLess" w="21600" h="21600">
                <a:moveTo>
                  <a:pt x="0" y="21600"/>
                </a:moveTo>
                <a:arcTo wR="5108" hR="21600" stAng="10800000" swAng="5400000"/>
                <a:lnTo>
                  <a:pt x="5108" y="0"/>
                </a:lnTo>
                <a:arcTo wR="5108" hR="21600" stAng="-5400000" swAng="882559"/>
                <a:lnTo>
                  <a:pt x="8903" y="7144"/>
                </a:lnTo>
                <a:arcTo wR="5108" hR="21600" stAng="-6282559" swAng="-4517441"/>
                <a:close/>
              </a:path>
            </a:pathLst>
          </a:custGeom>
          <a:solidFill>
            <a:srgbClr val="073e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17" descr=""/>
          <p:cNvPicPr/>
          <p:nvPr/>
        </p:nvPicPr>
        <p:blipFill>
          <a:blip r:embed="rId1"/>
          <a:stretch/>
        </p:blipFill>
        <p:spPr>
          <a:xfrm>
            <a:off x="826920" y="1109520"/>
            <a:ext cx="2694240" cy="567540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9"/>
          <p:cNvSpPr/>
          <p:nvPr/>
        </p:nvSpPr>
        <p:spPr>
          <a:xfrm>
            <a:off x="-36360" y="2637000"/>
            <a:ext cx="2016000" cy="337320"/>
          </a:xfrm>
          <a:prstGeom prst="rect">
            <a:avLst/>
          </a:prstGeom>
          <a:solidFill>
            <a:srgbClr val="c6e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Hemooxige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5"/>
          <p:cNvSpPr/>
          <p:nvPr/>
        </p:nvSpPr>
        <p:spPr>
          <a:xfrm>
            <a:off x="2987640" y="1916280"/>
            <a:ext cx="93492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H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2 Flecha derecha"/>
          <p:cNvSpPr/>
          <p:nvPr/>
        </p:nvSpPr>
        <p:spPr>
          <a:xfrm>
            <a:off x="6877080" y="1913040"/>
            <a:ext cx="395280" cy="237960"/>
          </a:xfrm>
          <a:prstGeom prst="rightArrow">
            <a:avLst>
              <a:gd name="adj1" fmla="val 50000"/>
              <a:gd name="adj2" fmla="val 50033"/>
            </a:avLst>
          </a:prstGeom>
          <a:solidFill>
            <a:srgbClr val="f9d98c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3 Flecha abajo"/>
          <p:cNvSpPr/>
          <p:nvPr/>
        </p:nvSpPr>
        <p:spPr>
          <a:xfrm>
            <a:off x="7846920" y="2151000"/>
            <a:ext cx="185760" cy="39708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f9d98c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4 Flecha izquierda"/>
          <p:cNvSpPr/>
          <p:nvPr/>
        </p:nvSpPr>
        <p:spPr>
          <a:xfrm>
            <a:off x="4067280" y="2070000"/>
            <a:ext cx="647640" cy="279360"/>
          </a:xfrm>
          <a:prstGeom prst="leftArrow">
            <a:avLst>
              <a:gd name="adj1" fmla="val 50000"/>
              <a:gd name="adj2" fmla="val 50004"/>
            </a:avLst>
          </a:prstGeom>
          <a:solidFill>
            <a:srgbClr val="f9d98c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6 Flecha curvada hacia arriba"/>
          <p:cNvSpPr/>
          <p:nvPr/>
        </p:nvSpPr>
        <p:spPr>
          <a:xfrm flipH="1" rot="2496600">
            <a:off x="3367800" y="2680560"/>
            <a:ext cx="1211400" cy="560880"/>
          </a:xfrm>
          <a:custGeom>
            <a:avLst/>
            <a:gdLst>
              <a:gd name="textAreaLeft" fmla="*/ 249840 w 1211400"/>
              <a:gd name="textAreaRight" fmla="*/ 890640 w 1211400"/>
              <a:gd name="textAreaTop" fmla="*/ 74880 h 560880"/>
              <a:gd name="textAreaBottom" fmla="*/ 486000 h 56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26" hR="21600" stAng="10800000" swAng="-5400000"/>
                <a:lnTo>
                  <a:pt x="11425" y="21600"/>
                </a:lnTo>
                <a:arcTo wR="8926" hR="21600" stAng="5400000" swAng="-3480135"/>
                <a:lnTo>
                  <a:pt x="21317" y="5400"/>
                </a:lnTo>
                <a:lnTo>
                  <a:pt x="19102" y="0"/>
                </a:lnTo>
                <a:lnTo>
                  <a:pt x="16320" y="5400"/>
                </a:lnTo>
                <a:lnTo>
                  <a:pt x="17569" y="5400"/>
                </a:lnTo>
                <a:arcTo wR="8926" hR="21600" stAng="1919865" swAng="3279522"/>
                <a:lnTo>
                  <a:pt x="10176" y="21387"/>
                </a:lnTo>
                <a:arcTo wR="8926" hR="21600" stAng="5600614" swAng="5199386"/>
                <a:close/>
              </a:path>
              <a:path fill="darkenLess" w="21600" h="21600">
                <a:moveTo>
                  <a:pt x="0" y="0"/>
                </a:moveTo>
                <a:arcTo wR="8926" hR="21600" stAng="10800000" swAng="-5400000"/>
                <a:lnTo>
                  <a:pt x="11425" y="21600"/>
                </a:lnTo>
                <a:arcTo wR="8926" hR="21600" stAng="5400000" swAng="200614"/>
                <a:lnTo>
                  <a:pt x="10176" y="21387"/>
                </a:lnTo>
                <a:arcTo wR="8926" hR="21600" stAng="5600614" swAng="5199386"/>
                <a:close/>
              </a:path>
            </a:pathLst>
          </a:custGeom>
          <a:solidFill>
            <a:srgbClr val="f9d98c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9"/>
          <p:cNvSpPr/>
          <p:nvPr/>
        </p:nvSpPr>
        <p:spPr>
          <a:xfrm>
            <a:off x="-11160" y="4365720"/>
            <a:ext cx="1990800" cy="337320"/>
          </a:xfrm>
          <a:prstGeom prst="rect">
            <a:avLst/>
          </a:prstGeom>
          <a:solidFill>
            <a:srgbClr val="c6e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Hemooxige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0"/>
          <p:cNvSpPr/>
          <p:nvPr/>
        </p:nvSpPr>
        <p:spPr>
          <a:xfrm>
            <a:off x="3421080" y="4797360"/>
            <a:ext cx="1511280" cy="398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Biliverd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22"/>
          <p:cNvSpPr/>
          <p:nvPr/>
        </p:nvSpPr>
        <p:spPr>
          <a:xfrm>
            <a:off x="3419640" y="6272280"/>
            <a:ext cx="18716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BILIRRUB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7 Elipse"/>
          <p:cNvSpPr/>
          <p:nvPr/>
        </p:nvSpPr>
        <p:spPr>
          <a:xfrm>
            <a:off x="1619280" y="2276640"/>
            <a:ext cx="288720" cy="4730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25 Elipse"/>
          <p:cNvSpPr/>
          <p:nvPr/>
        </p:nvSpPr>
        <p:spPr>
          <a:xfrm>
            <a:off x="1700280" y="4076640"/>
            <a:ext cx="287280" cy="4730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26 Elipse"/>
          <p:cNvSpPr/>
          <p:nvPr/>
        </p:nvSpPr>
        <p:spPr>
          <a:xfrm>
            <a:off x="2556000" y="2852640"/>
            <a:ext cx="287280" cy="4716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3" descr="DEGRADACION DEL HEM"/>
          <p:cNvPicPr/>
          <p:nvPr/>
        </p:nvPicPr>
        <p:blipFill>
          <a:blip r:embed="rId1"/>
          <a:srcRect l="0" t="70776" r="0" b="4147"/>
          <a:stretch/>
        </p:blipFill>
        <p:spPr>
          <a:xfrm>
            <a:off x="900000" y="2986200"/>
            <a:ext cx="6696360" cy="332244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066680"/>
          </a:xfrm>
          <a:prstGeom prst="rect">
            <a:avLst/>
          </a:prstGeom>
          <a:gradFill rotWithShape="0">
            <a:gsLst>
              <a:gs pos="0">
                <a:srgbClr val="2c5176"/>
              </a:gs>
              <a:gs pos="50000">
                <a:srgbClr val="5eaeff"/>
              </a:gs>
              <a:gs pos="100000">
                <a:srgbClr val="2c51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ndara"/>
              </a:rPr>
              <a:t>ETAPA HEPATICA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Candara"/>
              </a:rPr>
              <a:t>Reacción de Conjugación de Bilirrubina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4211640" y="2421000"/>
            <a:ext cx="338472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UDP-Glucuronil transf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"/>
          <p:cNvSpPr/>
          <p:nvPr/>
        </p:nvSpPr>
        <p:spPr>
          <a:xfrm>
            <a:off x="2916360" y="1628640"/>
            <a:ext cx="23763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BILIRRUB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6"/>
          <p:cNvSpPr/>
          <p:nvPr/>
        </p:nvSpPr>
        <p:spPr>
          <a:xfrm>
            <a:off x="971640" y="2060640"/>
            <a:ext cx="165564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2 UDP-Glucuró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7" descr="AD001810"/>
          <p:cNvPicPr/>
          <p:nvPr/>
        </p:nvPicPr>
        <p:blipFill>
          <a:blip r:embed="rId3"/>
          <a:stretch/>
        </p:blipFill>
        <p:spPr>
          <a:xfrm rot="19264200">
            <a:off x="3635280" y="2205000"/>
            <a:ext cx="704880" cy="8254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8" descr="ARROW_4"/>
          <p:cNvPicPr/>
          <p:nvPr/>
        </p:nvPicPr>
        <p:blipFill>
          <a:blip r:embed="rId4">
            <a:lum bright="50000"/>
          </a:blip>
          <a:stretch/>
        </p:blipFill>
        <p:spPr>
          <a:xfrm rot="11905800">
            <a:off x="2649600" y="2382120"/>
            <a:ext cx="1224000" cy="49212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9"/>
          <p:cNvSpPr/>
          <p:nvPr/>
        </p:nvSpPr>
        <p:spPr>
          <a:xfrm>
            <a:off x="971640" y="6308640"/>
            <a:ext cx="66247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IGLUCURONIDO DE BILIRRUB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0"/>
          <p:cNvSpPr/>
          <p:nvPr/>
        </p:nvSpPr>
        <p:spPr>
          <a:xfrm>
            <a:off x="3419640" y="4437000"/>
            <a:ext cx="1223640" cy="1079640"/>
          </a:xfrm>
          <a:prstGeom prst="rect">
            <a:avLst/>
          </a:prstGeom>
          <a:solidFill>
            <a:srgbClr val="ffffff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8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8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gradFill rotWithShape="0">
            <a:gsLst>
              <a:gs pos="0">
                <a:srgbClr val="2c5176"/>
              </a:gs>
              <a:gs pos="50000">
                <a:srgbClr val="5eaeff"/>
              </a:gs>
              <a:gs pos="100000">
                <a:srgbClr val="2c51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ndara"/>
              </a:rPr>
              <a:t>ETAPA INTESTINAL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62" name="Picture 18" descr="AR100037"/>
          <p:cNvPicPr/>
          <p:nvPr/>
        </p:nvPicPr>
        <p:blipFill>
          <a:blip r:embed="rId1"/>
          <a:stretch/>
        </p:blipFill>
        <p:spPr>
          <a:xfrm>
            <a:off x="676440" y="2679840"/>
            <a:ext cx="3822480" cy="34462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22" descr="AR100037"/>
          <p:cNvPicPr/>
          <p:nvPr/>
        </p:nvPicPr>
        <p:blipFill>
          <a:blip r:embed="rId2"/>
          <a:stretch/>
        </p:blipFill>
        <p:spPr>
          <a:xfrm>
            <a:off x="5435640" y="4797360"/>
            <a:ext cx="1224000" cy="57636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8"/>
          <p:cNvSpPr/>
          <p:nvPr/>
        </p:nvSpPr>
        <p:spPr>
          <a:xfrm>
            <a:off x="900000" y="2349360"/>
            <a:ext cx="273528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584d3"/>
                </a:solidFill>
                <a:latin typeface="Arial"/>
                <a:ea typeface="Arial"/>
              </a:rPr>
              <a:t>Diglucurónido de Bilirrub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9"/>
          <p:cNvSpPr/>
          <p:nvPr/>
        </p:nvSpPr>
        <p:spPr>
          <a:xfrm>
            <a:off x="6516720" y="2492280"/>
            <a:ext cx="180036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Bilirrub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0"/>
          <p:cNvSpPr/>
          <p:nvPr/>
        </p:nvSpPr>
        <p:spPr>
          <a:xfrm>
            <a:off x="4211640" y="2852640"/>
            <a:ext cx="187308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1"/>
          <p:cNvSpPr/>
          <p:nvPr/>
        </p:nvSpPr>
        <p:spPr>
          <a:xfrm>
            <a:off x="4140360" y="2133720"/>
            <a:ext cx="2016000" cy="368280"/>
          </a:xfrm>
          <a:prstGeom prst="rect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lucuronid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2"/>
          <p:cNvSpPr/>
          <p:nvPr/>
        </p:nvSpPr>
        <p:spPr>
          <a:xfrm>
            <a:off x="5651640" y="3141720"/>
            <a:ext cx="2305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cido Glucuró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13"/>
          <p:cNvSpPr/>
          <p:nvPr/>
        </p:nvSpPr>
        <p:spPr>
          <a:xfrm>
            <a:off x="5076720" y="2924280"/>
            <a:ext cx="358920" cy="504720"/>
          </a:xfrm>
          <a:custGeom>
            <a:avLst/>
            <a:gdLst>
              <a:gd name="textAreaLeft" fmla="*/ 47880 w 358920"/>
              <a:gd name="textAreaRight" fmla="*/ 311040 w 35892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4"/>
          <p:cNvSpPr/>
          <p:nvPr/>
        </p:nvSpPr>
        <p:spPr>
          <a:xfrm>
            <a:off x="539640" y="4724280"/>
            <a:ext cx="180036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Bilirrub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5"/>
          <p:cNvSpPr/>
          <p:nvPr/>
        </p:nvSpPr>
        <p:spPr>
          <a:xfrm>
            <a:off x="2987640" y="4788000"/>
            <a:ext cx="2519280" cy="368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esobilirrubinó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6"/>
          <p:cNvSpPr/>
          <p:nvPr/>
        </p:nvSpPr>
        <p:spPr>
          <a:xfrm>
            <a:off x="6516720" y="4829040"/>
            <a:ext cx="2376360" cy="398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stercobilinóg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17"/>
          <p:cNvSpPr/>
          <p:nvPr/>
        </p:nvSpPr>
        <p:spPr>
          <a:xfrm>
            <a:off x="3132000" y="5589720"/>
            <a:ext cx="3743640" cy="936360"/>
          </a:xfrm>
          <a:prstGeom prst="irregularSeal1">
            <a:avLst/>
          </a:prstGeom>
          <a:solidFill>
            <a:srgbClr val="f2f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Bacterias intesti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gradFill rotWithShape="0">
            <a:gsLst>
              <a:gs pos="0">
                <a:srgbClr val="2c5176"/>
              </a:gs>
              <a:gs pos="50000">
                <a:srgbClr val="5eaeff"/>
              </a:gs>
              <a:gs pos="100000">
                <a:srgbClr val="2c51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ndara"/>
              </a:rPr>
              <a:t>Esquema de Degradación del HEMO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5" name="Rectangle 4"/>
          <p:cNvSpPr/>
          <p:nvPr/>
        </p:nvSpPr>
        <p:spPr>
          <a:xfrm>
            <a:off x="2916360" y="1125360"/>
            <a:ext cx="1081080" cy="648000"/>
          </a:xfrm>
          <a:prstGeom prst="rect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2268360" y="2060640"/>
            <a:ext cx="20894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BILIRRUBINA (Indir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6"/>
          <p:cNvSpPr/>
          <p:nvPr/>
        </p:nvSpPr>
        <p:spPr>
          <a:xfrm>
            <a:off x="2050920" y="3141720"/>
            <a:ext cx="3732480" cy="1595520"/>
          </a:xfrm>
          <a:custGeom>
            <a:avLst/>
            <a:gdLst>
              <a:gd name="textAreaLeft" fmla="*/ 0 w 3732480"/>
              <a:gd name="textAreaRight" fmla="*/ 3732840 w 3732480"/>
              <a:gd name="textAreaTop" fmla="*/ 0 h 1595520"/>
              <a:gd name="textAreaBottom" fmla="*/ 1595880 h 1595520"/>
            </a:gdLst>
            <a:ahLst/>
            <a:rect l="textAreaLeft" t="textAreaTop" r="textAreaRight" b="textAreaBottom"/>
            <a:pathLst>
              <a:path w="2351" h="1005">
                <a:moveTo>
                  <a:pt x="136" y="680"/>
                </a:moveTo>
                <a:cubicBezTo>
                  <a:pt x="181" y="604"/>
                  <a:pt x="173" y="604"/>
                  <a:pt x="317" y="498"/>
                </a:cubicBezTo>
                <a:cubicBezTo>
                  <a:pt x="461" y="392"/>
                  <a:pt x="726" y="90"/>
                  <a:pt x="998" y="45"/>
                </a:cubicBezTo>
                <a:cubicBezTo>
                  <a:pt x="1270" y="0"/>
                  <a:pt x="1738" y="203"/>
                  <a:pt x="1950" y="226"/>
                </a:cubicBezTo>
                <a:cubicBezTo>
                  <a:pt x="2162" y="249"/>
                  <a:pt x="2215" y="121"/>
                  <a:pt x="2268" y="181"/>
                </a:cubicBezTo>
                <a:cubicBezTo>
                  <a:pt x="2321" y="241"/>
                  <a:pt x="2351" y="506"/>
                  <a:pt x="2268" y="589"/>
                </a:cubicBezTo>
                <a:cubicBezTo>
                  <a:pt x="2185" y="672"/>
                  <a:pt x="1943" y="620"/>
                  <a:pt x="1769" y="680"/>
                </a:cubicBezTo>
                <a:cubicBezTo>
                  <a:pt x="1595" y="740"/>
                  <a:pt x="1383" y="922"/>
                  <a:pt x="1224" y="952"/>
                </a:cubicBezTo>
                <a:cubicBezTo>
                  <a:pt x="1065" y="982"/>
                  <a:pt x="959" y="861"/>
                  <a:pt x="816" y="861"/>
                </a:cubicBezTo>
                <a:cubicBezTo>
                  <a:pt x="673" y="861"/>
                  <a:pt x="491" y="937"/>
                  <a:pt x="363" y="952"/>
                </a:cubicBezTo>
                <a:cubicBezTo>
                  <a:pt x="235" y="967"/>
                  <a:pt x="90" y="1005"/>
                  <a:pt x="45" y="952"/>
                </a:cubicBezTo>
                <a:cubicBezTo>
                  <a:pt x="0" y="899"/>
                  <a:pt x="91" y="756"/>
                  <a:pt x="136" y="680"/>
                </a:cubicBezTo>
                <a:close/>
              </a:path>
            </a:pathLst>
          </a:custGeom>
          <a:solidFill>
            <a:srgbClr val="cc6600"/>
          </a:solidFill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8"/>
          <p:cNvSpPr/>
          <p:nvPr/>
        </p:nvSpPr>
        <p:spPr>
          <a:xfrm>
            <a:off x="1692360" y="33577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6600"/>
                </a:solidFill>
                <a:latin typeface="Arial"/>
                <a:ea typeface="Arial"/>
              </a:rPr>
              <a:t>HI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9"/>
          <p:cNvSpPr/>
          <p:nvPr/>
        </p:nvSpPr>
        <p:spPr>
          <a:xfrm>
            <a:off x="2987640" y="357336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Gluc-Bilirrubina (Bil.  Dir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29"/>
          <p:cNvGrpSpPr/>
          <p:nvPr/>
        </p:nvGrpSpPr>
        <p:grpSpPr>
          <a:xfrm>
            <a:off x="6732720" y="1773360"/>
            <a:ext cx="1755720" cy="2268360"/>
            <a:chOff x="6732720" y="1773360"/>
            <a:chExt cx="1755720" cy="2268360"/>
          </a:xfrm>
        </p:grpSpPr>
        <p:sp>
          <p:nvSpPr>
            <p:cNvPr id="481" name="Freeform 13"/>
            <p:cNvSpPr/>
            <p:nvPr/>
          </p:nvSpPr>
          <p:spPr>
            <a:xfrm>
              <a:off x="6732720" y="1773360"/>
              <a:ext cx="1139760" cy="2268360"/>
            </a:xfrm>
            <a:custGeom>
              <a:avLst/>
              <a:gdLst>
                <a:gd name="textAreaLeft" fmla="*/ 0 w 1139760"/>
                <a:gd name="textAreaRight" fmla="*/ 1139760 w 1139760"/>
                <a:gd name="textAreaTop" fmla="*/ 0 h 2268360"/>
                <a:gd name="textAreaBottom" fmla="*/ 2268720 h 2268360"/>
              </a:gdLst>
              <a:ahLst/>
              <a:rect l="textAreaLeft" t="textAreaTop" r="textAreaRight" b="textAreaBottom"/>
              <a:pathLst>
                <a:path w="718" h="1429">
                  <a:moveTo>
                    <a:pt x="522" y="552"/>
                  </a:moveTo>
                  <a:cubicBezTo>
                    <a:pt x="529" y="431"/>
                    <a:pt x="718" y="326"/>
                    <a:pt x="703" y="235"/>
                  </a:cubicBezTo>
                  <a:cubicBezTo>
                    <a:pt x="688" y="144"/>
                    <a:pt x="522" y="16"/>
                    <a:pt x="431" y="8"/>
                  </a:cubicBezTo>
                  <a:cubicBezTo>
                    <a:pt x="340" y="0"/>
                    <a:pt x="227" y="53"/>
                    <a:pt x="159" y="189"/>
                  </a:cubicBezTo>
                  <a:cubicBezTo>
                    <a:pt x="91" y="325"/>
                    <a:pt x="0" y="635"/>
                    <a:pt x="23" y="824"/>
                  </a:cubicBezTo>
                  <a:cubicBezTo>
                    <a:pt x="46" y="1013"/>
                    <a:pt x="212" y="1232"/>
                    <a:pt x="295" y="1323"/>
                  </a:cubicBezTo>
                  <a:cubicBezTo>
                    <a:pt x="378" y="1414"/>
                    <a:pt x="462" y="1429"/>
                    <a:pt x="522" y="1369"/>
                  </a:cubicBezTo>
                  <a:cubicBezTo>
                    <a:pt x="582" y="1309"/>
                    <a:pt x="658" y="1096"/>
                    <a:pt x="658" y="960"/>
                  </a:cubicBezTo>
                  <a:cubicBezTo>
                    <a:pt x="658" y="824"/>
                    <a:pt x="515" y="673"/>
                    <a:pt x="522" y="552"/>
                  </a:cubicBezTo>
                  <a:close/>
                </a:path>
              </a:pathLst>
            </a:custGeom>
            <a:solidFill>
              <a:srgbClr val="bc406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4"/>
            <p:cNvSpPr/>
            <p:nvPr/>
          </p:nvSpPr>
          <p:spPr>
            <a:xfrm>
              <a:off x="7553520" y="2504880"/>
              <a:ext cx="934920" cy="100620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1006200"/>
                <a:gd name="textAreaBottom" fmla="*/ 1006560 h 1006200"/>
              </a:gdLst>
              <a:ahLst/>
              <a:rect l="textAreaLeft" t="textAreaTop" r="textAreaRight" b="textAreaBottom"/>
              <a:pathLst>
                <a:path w="589" h="634">
                  <a:moveTo>
                    <a:pt x="0" y="90"/>
                  </a:moveTo>
                  <a:cubicBezTo>
                    <a:pt x="132" y="45"/>
                    <a:pt x="265" y="0"/>
                    <a:pt x="363" y="90"/>
                  </a:cubicBezTo>
                  <a:cubicBezTo>
                    <a:pt x="461" y="180"/>
                    <a:pt x="551" y="543"/>
                    <a:pt x="589" y="63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5"/>
            <p:cNvSpPr/>
            <p:nvPr/>
          </p:nvSpPr>
          <p:spPr>
            <a:xfrm>
              <a:off x="7704360" y="2852640"/>
              <a:ext cx="649440" cy="659880"/>
            </a:xfrm>
            <a:custGeom>
              <a:avLst/>
              <a:gdLst>
                <a:gd name="textAreaLeft" fmla="*/ 0 w 649440"/>
                <a:gd name="textAreaRight" fmla="*/ 649800 w 649440"/>
                <a:gd name="textAreaTop" fmla="*/ 0 h 659880"/>
                <a:gd name="textAreaBottom" fmla="*/ 659880 h 659880"/>
              </a:gdLst>
              <a:ahLst/>
              <a:rect l="textAreaLeft" t="textAreaTop" r="textAreaRight" b="textAreaBottom"/>
              <a:pathLst>
                <a:path w="409" h="416">
                  <a:moveTo>
                    <a:pt x="0" y="99"/>
                  </a:moveTo>
                  <a:cubicBezTo>
                    <a:pt x="79" y="49"/>
                    <a:pt x="159" y="0"/>
                    <a:pt x="227" y="53"/>
                  </a:cubicBezTo>
                  <a:cubicBezTo>
                    <a:pt x="295" y="106"/>
                    <a:pt x="379" y="356"/>
                    <a:pt x="409" y="4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31"/>
          <p:cNvGrpSpPr/>
          <p:nvPr/>
        </p:nvGrpSpPr>
        <p:grpSpPr>
          <a:xfrm>
            <a:off x="4524480" y="4789440"/>
            <a:ext cx="1344600" cy="1871640"/>
            <a:chOff x="4524480" y="4789440"/>
            <a:chExt cx="1344600" cy="1871640"/>
          </a:xfrm>
        </p:grpSpPr>
        <p:sp>
          <p:nvSpPr>
            <p:cNvPr id="485" name="Freeform 16"/>
            <p:cNvSpPr/>
            <p:nvPr/>
          </p:nvSpPr>
          <p:spPr>
            <a:xfrm>
              <a:off x="4524480" y="4789440"/>
              <a:ext cx="1199880" cy="1871640"/>
            </a:xfrm>
            <a:custGeom>
              <a:avLst/>
              <a:gdLst>
                <a:gd name="textAreaLeft" fmla="*/ 0 w 1199880"/>
                <a:gd name="textAreaRight" fmla="*/ 1200240 w 1199880"/>
                <a:gd name="textAreaTop" fmla="*/ 0 h 1871640"/>
                <a:gd name="textAreaBottom" fmla="*/ 1872000 h 1871640"/>
              </a:gdLst>
              <a:ahLst/>
              <a:rect l="textAreaLeft" t="textAreaTop" r="textAreaRight" b="textAreaBottom"/>
              <a:pathLst>
                <a:path w="756" h="1179">
                  <a:moveTo>
                    <a:pt x="121" y="0"/>
                  </a:moveTo>
                  <a:cubicBezTo>
                    <a:pt x="102" y="106"/>
                    <a:pt x="83" y="212"/>
                    <a:pt x="121" y="272"/>
                  </a:cubicBezTo>
                  <a:cubicBezTo>
                    <a:pt x="159" y="332"/>
                    <a:pt x="280" y="348"/>
                    <a:pt x="348" y="363"/>
                  </a:cubicBezTo>
                  <a:cubicBezTo>
                    <a:pt x="416" y="378"/>
                    <a:pt x="491" y="333"/>
                    <a:pt x="529" y="363"/>
                  </a:cubicBezTo>
                  <a:cubicBezTo>
                    <a:pt x="567" y="393"/>
                    <a:pt x="649" y="506"/>
                    <a:pt x="574" y="544"/>
                  </a:cubicBezTo>
                  <a:cubicBezTo>
                    <a:pt x="499" y="582"/>
                    <a:pt x="150" y="537"/>
                    <a:pt x="75" y="590"/>
                  </a:cubicBezTo>
                  <a:cubicBezTo>
                    <a:pt x="0" y="643"/>
                    <a:pt x="23" y="809"/>
                    <a:pt x="121" y="862"/>
                  </a:cubicBezTo>
                  <a:cubicBezTo>
                    <a:pt x="219" y="915"/>
                    <a:pt x="574" y="854"/>
                    <a:pt x="665" y="907"/>
                  </a:cubicBezTo>
                  <a:cubicBezTo>
                    <a:pt x="756" y="960"/>
                    <a:pt x="665" y="1134"/>
                    <a:pt x="665" y="1179"/>
                  </a:cubicBezTo>
                </a:path>
              </a:pathLst>
            </a:cu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9"/>
            <p:cNvSpPr/>
            <p:nvPr/>
          </p:nvSpPr>
          <p:spPr>
            <a:xfrm>
              <a:off x="4788000" y="4797360"/>
              <a:ext cx="1081080" cy="1727280"/>
            </a:xfrm>
            <a:custGeom>
              <a:avLst/>
              <a:gdLst>
                <a:gd name="textAreaLeft" fmla="*/ 0 w 1081080"/>
                <a:gd name="textAreaRight" fmla="*/ 1081080 w 108108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681" h="1088">
                  <a:moveTo>
                    <a:pt x="136" y="0"/>
                  </a:moveTo>
                  <a:cubicBezTo>
                    <a:pt x="109" y="49"/>
                    <a:pt x="83" y="98"/>
                    <a:pt x="136" y="136"/>
                  </a:cubicBezTo>
                  <a:cubicBezTo>
                    <a:pt x="189" y="174"/>
                    <a:pt x="378" y="151"/>
                    <a:pt x="454" y="227"/>
                  </a:cubicBezTo>
                  <a:cubicBezTo>
                    <a:pt x="530" y="303"/>
                    <a:pt x="620" y="514"/>
                    <a:pt x="590" y="590"/>
                  </a:cubicBezTo>
                  <a:cubicBezTo>
                    <a:pt x="560" y="666"/>
                    <a:pt x="363" y="665"/>
                    <a:pt x="272" y="680"/>
                  </a:cubicBezTo>
                  <a:cubicBezTo>
                    <a:pt x="181" y="695"/>
                    <a:pt x="75" y="665"/>
                    <a:pt x="45" y="680"/>
                  </a:cubicBezTo>
                  <a:cubicBezTo>
                    <a:pt x="15" y="695"/>
                    <a:pt x="0" y="756"/>
                    <a:pt x="91" y="771"/>
                  </a:cubicBezTo>
                  <a:cubicBezTo>
                    <a:pt x="182" y="786"/>
                    <a:pt x="499" y="718"/>
                    <a:pt x="590" y="771"/>
                  </a:cubicBezTo>
                  <a:cubicBezTo>
                    <a:pt x="681" y="824"/>
                    <a:pt x="628" y="1035"/>
                    <a:pt x="635" y="1088"/>
                  </a:cubicBezTo>
                </a:path>
              </a:pathLst>
            </a:cu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Text Box 20"/>
          <p:cNvSpPr/>
          <p:nvPr/>
        </p:nvSpPr>
        <p:spPr>
          <a:xfrm>
            <a:off x="5148360" y="5048280"/>
            <a:ext cx="1798560" cy="39888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INTEST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1"/>
          <p:cNvSpPr/>
          <p:nvPr/>
        </p:nvSpPr>
        <p:spPr>
          <a:xfrm rot="3768600">
            <a:off x="6731640" y="24915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RIÑ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22"/>
          <p:cNvSpPr/>
          <p:nvPr/>
        </p:nvSpPr>
        <p:spPr>
          <a:xfrm>
            <a:off x="5076720" y="4292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BI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7667640" y="4292640"/>
            <a:ext cx="1368360" cy="398880"/>
          </a:xfrm>
          <a:prstGeom prst="rect">
            <a:avLst/>
          </a:prstGeom>
          <a:noFill/>
          <a:ln w="9360">
            <a:solidFill>
              <a:srgbClr val="073e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UR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7488360" y="5254560"/>
            <a:ext cx="1655640" cy="398880"/>
          </a:xfrm>
          <a:prstGeom prst="rect">
            <a:avLst/>
          </a:prstGeom>
          <a:noFill/>
          <a:ln w="9360">
            <a:solidFill>
              <a:srgbClr val="073e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UROBI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6"/>
          <p:cNvSpPr/>
          <p:nvPr/>
        </p:nvSpPr>
        <p:spPr>
          <a:xfrm>
            <a:off x="3276720" y="6308640"/>
            <a:ext cx="1942920" cy="398880"/>
          </a:xfrm>
          <a:prstGeom prst="rect">
            <a:avLst/>
          </a:prstGeom>
          <a:noFill/>
          <a:ln w="9360">
            <a:solidFill>
              <a:srgbClr val="073e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7"/>
          <p:cNvSpPr/>
          <p:nvPr/>
        </p:nvSpPr>
        <p:spPr>
          <a:xfrm>
            <a:off x="0" y="6381720"/>
            <a:ext cx="2446200" cy="398880"/>
          </a:xfrm>
          <a:prstGeom prst="rect">
            <a:avLst/>
          </a:prstGeom>
          <a:noFill/>
          <a:ln w="9360">
            <a:solidFill>
              <a:srgbClr val="073e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BI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28"/>
          <p:cNvSpPr/>
          <p:nvPr/>
        </p:nvSpPr>
        <p:spPr>
          <a:xfrm>
            <a:off x="4600440" y="2492280"/>
            <a:ext cx="1943280" cy="398880"/>
          </a:xfrm>
          <a:prstGeom prst="rect">
            <a:avLst/>
          </a:prstGeom>
          <a:noFill/>
          <a:ln w="9360">
            <a:solidFill>
              <a:srgbClr val="073e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32"/>
          <p:cNvSpPr/>
          <p:nvPr/>
        </p:nvSpPr>
        <p:spPr>
          <a:xfrm>
            <a:off x="3419640" y="1773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33"/>
          <p:cNvSpPr/>
          <p:nvPr/>
        </p:nvSpPr>
        <p:spPr>
          <a:xfrm>
            <a:off x="3419640" y="2781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4"/>
          <p:cNvSpPr/>
          <p:nvPr/>
        </p:nvSpPr>
        <p:spPr>
          <a:xfrm>
            <a:off x="4932360" y="4221000"/>
            <a:ext cx="0" cy="540000"/>
          </a:xfrm>
          <a:prstGeom prst="line">
            <a:avLst/>
          </a:prstGeom>
          <a:ln w="38160">
            <a:solidFill>
              <a:srgbClr val="bc4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41"/>
          <p:cNvSpPr/>
          <p:nvPr/>
        </p:nvSpPr>
        <p:spPr>
          <a:xfrm rot="15972600">
            <a:off x="2949120" y="3898440"/>
            <a:ext cx="801720" cy="2452680"/>
          </a:xfrm>
          <a:custGeom>
            <a:avLst/>
            <a:gdLst>
              <a:gd name="textAreaLeft" fmla="*/ 461160 w 801720"/>
              <a:gd name="textAreaRight" fmla="*/ 739800 w 801720"/>
              <a:gd name="textAreaTop" fmla="*/ 542880 h 2452680"/>
              <a:gd name="textAreaBottom" fmla="*/ 837720 h 24526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751" y="0"/>
                </a:lnTo>
                <a:lnTo>
                  <a:pt x="13751" y="4781"/>
                </a:lnTo>
                <a:lnTo>
                  <a:pt x="12427" y="4781"/>
                </a:lnTo>
                <a:cubicBezTo>
                  <a:pt x="5564" y="4781"/>
                  <a:pt x="0" y="8084"/>
                  <a:pt x="0" y="12158"/>
                </a:cubicBezTo>
                <a:lnTo>
                  <a:pt x="0" y="21600"/>
                </a:lnTo>
                <a:lnTo>
                  <a:pt x="2653" y="21600"/>
                </a:lnTo>
                <a:lnTo>
                  <a:pt x="2653" y="12158"/>
                </a:lnTo>
                <a:cubicBezTo>
                  <a:pt x="2653" y="9518"/>
                  <a:pt x="7029" y="7377"/>
                  <a:pt x="12427" y="7377"/>
                </a:cubicBezTo>
                <a:lnTo>
                  <a:pt x="13751" y="7377"/>
                </a:lnTo>
                <a:lnTo>
                  <a:pt x="13751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42"/>
          <p:cNvSpPr/>
          <p:nvPr/>
        </p:nvSpPr>
        <p:spPr>
          <a:xfrm rot="5400000">
            <a:off x="5293440" y="6284160"/>
            <a:ext cx="262080" cy="743040"/>
          </a:xfrm>
          <a:custGeom>
            <a:avLst/>
            <a:gdLst>
              <a:gd name="textAreaLeft" fmla="*/ 34920 w 262080"/>
              <a:gd name="textAreaRight" fmla="*/ 227160 w 262080"/>
              <a:gd name="textAreaTop" fmla="*/ 129960 h 743040"/>
              <a:gd name="textAreaBottom" fmla="*/ 538920 h 7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44"/>
          <p:cNvSpPr/>
          <p:nvPr/>
        </p:nvSpPr>
        <p:spPr>
          <a:xfrm flipH="1">
            <a:off x="2448000" y="6524640"/>
            <a:ext cx="504720" cy="0"/>
          </a:xfrm>
          <a:prstGeom prst="line">
            <a:avLst/>
          </a:prstGeom>
          <a:ln w="4752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45"/>
          <p:cNvSpPr/>
          <p:nvPr/>
        </p:nvSpPr>
        <p:spPr>
          <a:xfrm>
            <a:off x="8459640" y="3716280"/>
            <a:ext cx="0" cy="539640"/>
          </a:xfrm>
          <a:prstGeom prst="line">
            <a:avLst/>
          </a:prstGeom>
          <a:ln w="38160">
            <a:solidFill>
              <a:srgbClr val="bc4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46"/>
          <p:cNvSpPr/>
          <p:nvPr/>
        </p:nvSpPr>
        <p:spPr>
          <a:xfrm>
            <a:off x="8459640" y="4724280"/>
            <a:ext cx="0" cy="540000"/>
          </a:xfrm>
          <a:prstGeom prst="line">
            <a:avLst/>
          </a:prstGeom>
          <a:ln w="3816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3"/>
          <p:cNvSpPr/>
          <p:nvPr/>
        </p:nvSpPr>
        <p:spPr>
          <a:xfrm>
            <a:off x="1547640" y="5300640"/>
            <a:ext cx="19432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73e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47"/>
          <p:cNvSpPr/>
          <p:nvPr/>
        </p:nvSpPr>
        <p:spPr>
          <a:xfrm>
            <a:off x="5105520" y="2852640"/>
            <a:ext cx="1655640" cy="432000"/>
          </a:xfrm>
          <a:custGeom>
            <a:avLst/>
            <a:gdLst>
              <a:gd name="textAreaLeft" fmla="*/ 952560 w 1655640"/>
              <a:gd name="textAreaRight" fmla="*/ 1397160 w 1655640"/>
              <a:gd name="textAreaTop" fmla="*/ 57960 h 432000"/>
              <a:gd name="textAreaBottom" fmla="*/ 1850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48"/>
          <p:cNvSpPr/>
          <p:nvPr/>
        </p:nvSpPr>
        <p:spPr>
          <a:xfrm>
            <a:off x="7956720" y="6021360"/>
            <a:ext cx="863280" cy="503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r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49"/>
          <p:cNvSpPr/>
          <p:nvPr/>
        </p:nvSpPr>
        <p:spPr>
          <a:xfrm>
            <a:off x="324000" y="5734080"/>
            <a:ext cx="863280" cy="503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H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50"/>
          <p:cNvSpPr/>
          <p:nvPr/>
        </p:nvSpPr>
        <p:spPr>
          <a:xfrm>
            <a:off x="0" y="2421000"/>
            <a:ext cx="1979640" cy="647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angre circu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584d3"/>
                </a:solidFill>
                <a:latin typeface="Candara"/>
              </a:rPr>
              <a:t>BILIRRUBINA DIRECTA</a:t>
            </a:r>
            <a:r>
              <a:rPr b="0" lang="es-ES" sz="2800" spc="-1" strike="noStrike">
                <a:solidFill>
                  <a:srgbClr val="073e87"/>
                </a:solidFill>
                <a:latin typeface="Candara"/>
              </a:rPr>
              <a:t>: Mide niveles de bilirrubina conjugada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584d3"/>
                </a:solidFill>
                <a:latin typeface="Candara"/>
              </a:rPr>
              <a:t>BILIRRUBINA INDIRECTA</a:t>
            </a:r>
            <a:r>
              <a:rPr b="0" lang="es-ES" sz="2800" spc="-1" strike="noStrike">
                <a:solidFill>
                  <a:srgbClr val="073e87"/>
                </a:solidFill>
                <a:latin typeface="Candara"/>
              </a:rPr>
              <a:t>: Mide niveles de Bilirrubina unida a albúmina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gradFill rotWithShape="0">
            <a:gsLst>
              <a:gs pos="0">
                <a:srgbClr val="2c5176"/>
              </a:gs>
              <a:gs pos="50000">
                <a:srgbClr val="5eaeff"/>
              </a:gs>
              <a:gs pos="100000">
                <a:srgbClr val="2c51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ndara"/>
              </a:rPr>
              <a:t>DETERMINACION DE BILIRRUBINA CON FINES DIAGNOSTICOS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8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"/>
          <p:cNvPicPr/>
          <p:nvPr/>
        </p:nvPicPr>
        <p:blipFill>
          <a:blip r:embed="rId1"/>
          <a:stretch/>
        </p:blipFill>
        <p:spPr>
          <a:xfrm>
            <a:off x="1547640" y="2657520"/>
            <a:ext cx="3019680" cy="24192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" descr=""/>
          <p:cNvPicPr/>
          <p:nvPr/>
        </p:nvPicPr>
        <p:blipFill>
          <a:blip r:embed="rId2"/>
          <a:stretch/>
        </p:blipFill>
        <p:spPr>
          <a:xfrm>
            <a:off x="5219640" y="3357720"/>
            <a:ext cx="3097440" cy="2077920"/>
          </a:xfrm>
          <a:prstGeom prst="rect">
            <a:avLst/>
          </a:prstGeom>
          <a:ln w="0">
            <a:noFill/>
          </a:ln>
        </p:spPr>
      </p:pic>
      <p:sp>
        <p:nvSpPr>
          <p:cNvPr id="512" name="1 CuadroTexto"/>
          <p:cNvSpPr/>
          <p:nvPr/>
        </p:nvSpPr>
        <p:spPr>
          <a:xfrm>
            <a:off x="1547640" y="105264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HIPERBILIRRUBIN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2 Flecha curvada hacia abajo"/>
          <p:cNvSpPr/>
          <p:nvPr/>
        </p:nvSpPr>
        <p:spPr>
          <a:xfrm rot="2853000">
            <a:off x="5616000" y="1541520"/>
            <a:ext cx="1973520" cy="868320"/>
          </a:xfrm>
          <a:custGeom>
            <a:avLst/>
            <a:gdLst>
              <a:gd name="textAreaLeft" fmla="*/ 411840 w 1973520"/>
              <a:gd name="textAreaRight" fmla="*/ 1452960 w 1973520"/>
              <a:gd name="textAreaTop" fmla="*/ 116280 h 868320"/>
              <a:gd name="textAreaBottom" fmla="*/ 752040 h 868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18" hR="21600" stAng="10800000" swAng="5400000"/>
                <a:lnTo>
                  <a:pt x="11395" y="0"/>
                </a:lnTo>
                <a:arcTo wR="9018" hR="21600" stAng="-5400000" swAng="3495855"/>
                <a:lnTo>
                  <a:pt x="21314" y="16200"/>
                </a:lnTo>
                <a:lnTo>
                  <a:pt x="19224" y="21600"/>
                </a:lnTo>
                <a:lnTo>
                  <a:pt x="16561" y="16200"/>
                </a:lnTo>
                <a:lnTo>
                  <a:pt x="17749" y="16200"/>
                </a:lnTo>
                <a:arcTo wR="9018" hR="21600" stAng="-1904145" swAng="-3305231"/>
                <a:lnTo>
                  <a:pt x="10206" y="188"/>
                </a:lnTo>
                <a:arcTo wR="9018" hR="21600" stAng="-5590625" swAng="-5209375"/>
                <a:close/>
              </a:path>
              <a:path fill="darkenLess" w="21600" h="21600">
                <a:moveTo>
                  <a:pt x="0" y="21600"/>
                </a:moveTo>
                <a:arcTo wR="9018" hR="21600" stAng="10800000" swAng="5400000"/>
                <a:lnTo>
                  <a:pt x="9018" y="0"/>
                </a:lnTo>
                <a:arcTo wR="9018" hR="21600" stAng="-5400000" swAng="190625"/>
                <a:lnTo>
                  <a:pt x="10206" y="188"/>
                </a:lnTo>
                <a:arcTo wR="9018" hR="21600" stAng="-5590625" swAng="-5209375"/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4"/>
          <p:cNvSpPr/>
          <p:nvPr/>
        </p:nvSpPr>
        <p:spPr>
          <a:xfrm>
            <a:off x="457200" y="115920"/>
            <a:ext cx="8229600" cy="936720"/>
          </a:xfrm>
          <a:prstGeom prst="rect">
            <a:avLst/>
          </a:prstGeom>
          <a:gradFill rotWithShape="0">
            <a:gsLst>
              <a:gs pos="0">
                <a:srgbClr val="2c5176"/>
              </a:gs>
              <a:gs pos="50000">
                <a:srgbClr val="5eaeff"/>
              </a:gs>
              <a:gs pos="100000">
                <a:srgbClr val="2c51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lteraciones de los pigmentos derivados de hemo en l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Ictericia Hem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"/>
          <p:cNvSpPr/>
          <p:nvPr/>
        </p:nvSpPr>
        <p:spPr>
          <a:xfrm>
            <a:off x="2916360" y="1125360"/>
            <a:ext cx="1081080" cy="648000"/>
          </a:xfrm>
          <a:prstGeom prst="rect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2268360" y="2060640"/>
            <a:ext cx="208944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BILIRRUBINA (Indir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7"/>
          <p:cNvSpPr/>
          <p:nvPr/>
        </p:nvSpPr>
        <p:spPr>
          <a:xfrm>
            <a:off x="2050920" y="3141720"/>
            <a:ext cx="3732480" cy="1595520"/>
          </a:xfrm>
          <a:custGeom>
            <a:avLst/>
            <a:gdLst>
              <a:gd name="textAreaLeft" fmla="*/ 0 w 3732480"/>
              <a:gd name="textAreaRight" fmla="*/ 3732840 w 3732480"/>
              <a:gd name="textAreaTop" fmla="*/ 0 h 1595520"/>
              <a:gd name="textAreaBottom" fmla="*/ 1595880 h 1595520"/>
            </a:gdLst>
            <a:ahLst/>
            <a:rect l="textAreaLeft" t="textAreaTop" r="textAreaRight" b="textAreaBottom"/>
            <a:pathLst>
              <a:path w="2351" h="1005">
                <a:moveTo>
                  <a:pt x="136" y="680"/>
                </a:moveTo>
                <a:cubicBezTo>
                  <a:pt x="181" y="604"/>
                  <a:pt x="173" y="604"/>
                  <a:pt x="317" y="498"/>
                </a:cubicBezTo>
                <a:cubicBezTo>
                  <a:pt x="461" y="392"/>
                  <a:pt x="726" y="90"/>
                  <a:pt x="998" y="45"/>
                </a:cubicBezTo>
                <a:cubicBezTo>
                  <a:pt x="1270" y="0"/>
                  <a:pt x="1738" y="203"/>
                  <a:pt x="1950" y="226"/>
                </a:cubicBezTo>
                <a:cubicBezTo>
                  <a:pt x="2162" y="249"/>
                  <a:pt x="2215" y="121"/>
                  <a:pt x="2268" y="181"/>
                </a:cubicBezTo>
                <a:cubicBezTo>
                  <a:pt x="2321" y="241"/>
                  <a:pt x="2351" y="506"/>
                  <a:pt x="2268" y="589"/>
                </a:cubicBezTo>
                <a:cubicBezTo>
                  <a:pt x="2185" y="672"/>
                  <a:pt x="1943" y="620"/>
                  <a:pt x="1769" y="680"/>
                </a:cubicBezTo>
                <a:cubicBezTo>
                  <a:pt x="1595" y="740"/>
                  <a:pt x="1383" y="922"/>
                  <a:pt x="1224" y="952"/>
                </a:cubicBezTo>
                <a:cubicBezTo>
                  <a:pt x="1065" y="982"/>
                  <a:pt x="959" y="861"/>
                  <a:pt x="816" y="861"/>
                </a:cubicBezTo>
                <a:cubicBezTo>
                  <a:pt x="673" y="861"/>
                  <a:pt x="491" y="937"/>
                  <a:pt x="363" y="952"/>
                </a:cubicBezTo>
                <a:cubicBezTo>
                  <a:pt x="235" y="967"/>
                  <a:pt x="90" y="1005"/>
                  <a:pt x="45" y="952"/>
                </a:cubicBezTo>
                <a:cubicBezTo>
                  <a:pt x="0" y="899"/>
                  <a:pt x="91" y="756"/>
                  <a:pt x="136" y="680"/>
                </a:cubicBezTo>
                <a:close/>
              </a:path>
            </a:pathLst>
          </a:custGeom>
          <a:solidFill>
            <a:srgbClr val="cc6600"/>
          </a:solidFill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9"/>
          <p:cNvSpPr/>
          <p:nvPr/>
        </p:nvSpPr>
        <p:spPr>
          <a:xfrm>
            <a:off x="2987640" y="357336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Gluc-Bilirrubina (Bil.  Dir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10"/>
          <p:cNvGrpSpPr/>
          <p:nvPr/>
        </p:nvGrpSpPr>
        <p:grpSpPr>
          <a:xfrm>
            <a:off x="6732720" y="1773360"/>
            <a:ext cx="1755720" cy="2268360"/>
            <a:chOff x="6732720" y="1773360"/>
            <a:chExt cx="1755720" cy="2268360"/>
          </a:xfrm>
        </p:grpSpPr>
        <p:sp>
          <p:nvSpPr>
            <p:cNvPr id="520" name="Freeform 11"/>
            <p:cNvSpPr/>
            <p:nvPr/>
          </p:nvSpPr>
          <p:spPr>
            <a:xfrm>
              <a:off x="6732720" y="1773360"/>
              <a:ext cx="1139760" cy="2268360"/>
            </a:xfrm>
            <a:custGeom>
              <a:avLst/>
              <a:gdLst>
                <a:gd name="textAreaLeft" fmla="*/ 0 w 1139760"/>
                <a:gd name="textAreaRight" fmla="*/ 1139760 w 1139760"/>
                <a:gd name="textAreaTop" fmla="*/ 0 h 2268360"/>
                <a:gd name="textAreaBottom" fmla="*/ 2268720 h 2268360"/>
              </a:gdLst>
              <a:ahLst/>
              <a:rect l="textAreaLeft" t="textAreaTop" r="textAreaRight" b="textAreaBottom"/>
              <a:pathLst>
                <a:path w="718" h="1429">
                  <a:moveTo>
                    <a:pt x="522" y="552"/>
                  </a:moveTo>
                  <a:cubicBezTo>
                    <a:pt x="529" y="431"/>
                    <a:pt x="718" y="326"/>
                    <a:pt x="703" y="235"/>
                  </a:cubicBezTo>
                  <a:cubicBezTo>
                    <a:pt x="688" y="144"/>
                    <a:pt x="522" y="16"/>
                    <a:pt x="431" y="8"/>
                  </a:cubicBezTo>
                  <a:cubicBezTo>
                    <a:pt x="340" y="0"/>
                    <a:pt x="227" y="53"/>
                    <a:pt x="159" y="189"/>
                  </a:cubicBezTo>
                  <a:cubicBezTo>
                    <a:pt x="91" y="325"/>
                    <a:pt x="0" y="635"/>
                    <a:pt x="23" y="824"/>
                  </a:cubicBezTo>
                  <a:cubicBezTo>
                    <a:pt x="46" y="1013"/>
                    <a:pt x="212" y="1232"/>
                    <a:pt x="295" y="1323"/>
                  </a:cubicBezTo>
                  <a:cubicBezTo>
                    <a:pt x="378" y="1414"/>
                    <a:pt x="462" y="1429"/>
                    <a:pt x="522" y="1369"/>
                  </a:cubicBezTo>
                  <a:cubicBezTo>
                    <a:pt x="582" y="1309"/>
                    <a:pt x="658" y="1096"/>
                    <a:pt x="658" y="960"/>
                  </a:cubicBezTo>
                  <a:cubicBezTo>
                    <a:pt x="658" y="824"/>
                    <a:pt x="515" y="673"/>
                    <a:pt x="522" y="552"/>
                  </a:cubicBezTo>
                  <a:close/>
                </a:path>
              </a:pathLst>
            </a:custGeom>
            <a:solidFill>
              <a:srgbClr val="bc406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2"/>
            <p:cNvSpPr/>
            <p:nvPr/>
          </p:nvSpPr>
          <p:spPr>
            <a:xfrm>
              <a:off x="7553520" y="2504880"/>
              <a:ext cx="934920" cy="100620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1006200"/>
                <a:gd name="textAreaBottom" fmla="*/ 1006560 h 1006200"/>
              </a:gdLst>
              <a:ahLst/>
              <a:rect l="textAreaLeft" t="textAreaTop" r="textAreaRight" b="textAreaBottom"/>
              <a:pathLst>
                <a:path w="589" h="634">
                  <a:moveTo>
                    <a:pt x="0" y="90"/>
                  </a:moveTo>
                  <a:cubicBezTo>
                    <a:pt x="132" y="45"/>
                    <a:pt x="265" y="0"/>
                    <a:pt x="363" y="90"/>
                  </a:cubicBezTo>
                  <a:cubicBezTo>
                    <a:pt x="461" y="180"/>
                    <a:pt x="551" y="543"/>
                    <a:pt x="589" y="63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3"/>
            <p:cNvSpPr/>
            <p:nvPr/>
          </p:nvSpPr>
          <p:spPr>
            <a:xfrm>
              <a:off x="7704360" y="2852640"/>
              <a:ext cx="649440" cy="659880"/>
            </a:xfrm>
            <a:custGeom>
              <a:avLst/>
              <a:gdLst>
                <a:gd name="textAreaLeft" fmla="*/ 0 w 649440"/>
                <a:gd name="textAreaRight" fmla="*/ 649800 w 649440"/>
                <a:gd name="textAreaTop" fmla="*/ 0 h 659880"/>
                <a:gd name="textAreaBottom" fmla="*/ 659880 h 659880"/>
              </a:gdLst>
              <a:ahLst/>
              <a:rect l="textAreaLeft" t="textAreaTop" r="textAreaRight" b="textAreaBottom"/>
              <a:pathLst>
                <a:path w="409" h="416">
                  <a:moveTo>
                    <a:pt x="0" y="99"/>
                  </a:moveTo>
                  <a:cubicBezTo>
                    <a:pt x="79" y="49"/>
                    <a:pt x="159" y="0"/>
                    <a:pt x="227" y="53"/>
                  </a:cubicBezTo>
                  <a:cubicBezTo>
                    <a:pt x="295" y="106"/>
                    <a:pt x="379" y="356"/>
                    <a:pt x="409" y="4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14"/>
          <p:cNvGrpSpPr/>
          <p:nvPr/>
        </p:nvGrpSpPr>
        <p:grpSpPr>
          <a:xfrm>
            <a:off x="4524480" y="4789440"/>
            <a:ext cx="1344600" cy="1871640"/>
            <a:chOff x="4524480" y="4789440"/>
            <a:chExt cx="1344600" cy="1871640"/>
          </a:xfrm>
        </p:grpSpPr>
        <p:sp>
          <p:nvSpPr>
            <p:cNvPr id="524" name="Freeform 15"/>
            <p:cNvSpPr/>
            <p:nvPr/>
          </p:nvSpPr>
          <p:spPr>
            <a:xfrm>
              <a:off x="4524480" y="4789440"/>
              <a:ext cx="1199880" cy="1871640"/>
            </a:xfrm>
            <a:custGeom>
              <a:avLst/>
              <a:gdLst>
                <a:gd name="textAreaLeft" fmla="*/ 0 w 1199880"/>
                <a:gd name="textAreaRight" fmla="*/ 1200240 w 1199880"/>
                <a:gd name="textAreaTop" fmla="*/ 0 h 1871640"/>
                <a:gd name="textAreaBottom" fmla="*/ 1872000 h 1871640"/>
              </a:gdLst>
              <a:ahLst/>
              <a:rect l="textAreaLeft" t="textAreaTop" r="textAreaRight" b="textAreaBottom"/>
              <a:pathLst>
                <a:path w="756" h="1179">
                  <a:moveTo>
                    <a:pt x="121" y="0"/>
                  </a:moveTo>
                  <a:cubicBezTo>
                    <a:pt x="102" y="106"/>
                    <a:pt x="83" y="212"/>
                    <a:pt x="121" y="272"/>
                  </a:cubicBezTo>
                  <a:cubicBezTo>
                    <a:pt x="159" y="332"/>
                    <a:pt x="280" y="348"/>
                    <a:pt x="348" y="363"/>
                  </a:cubicBezTo>
                  <a:cubicBezTo>
                    <a:pt x="416" y="378"/>
                    <a:pt x="491" y="333"/>
                    <a:pt x="529" y="363"/>
                  </a:cubicBezTo>
                  <a:cubicBezTo>
                    <a:pt x="567" y="393"/>
                    <a:pt x="649" y="506"/>
                    <a:pt x="574" y="544"/>
                  </a:cubicBezTo>
                  <a:cubicBezTo>
                    <a:pt x="499" y="582"/>
                    <a:pt x="150" y="537"/>
                    <a:pt x="75" y="590"/>
                  </a:cubicBezTo>
                  <a:cubicBezTo>
                    <a:pt x="0" y="643"/>
                    <a:pt x="23" y="809"/>
                    <a:pt x="121" y="862"/>
                  </a:cubicBezTo>
                  <a:cubicBezTo>
                    <a:pt x="219" y="915"/>
                    <a:pt x="574" y="854"/>
                    <a:pt x="665" y="907"/>
                  </a:cubicBezTo>
                  <a:cubicBezTo>
                    <a:pt x="756" y="960"/>
                    <a:pt x="665" y="1134"/>
                    <a:pt x="665" y="1179"/>
                  </a:cubicBezTo>
                </a:path>
              </a:pathLst>
            </a:cu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6"/>
            <p:cNvSpPr/>
            <p:nvPr/>
          </p:nvSpPr>
          <p:spPr>
            <a:xfrm>
              <a:off x="4788000" y="4797360"/>
              <a:ext cx="1081080" cy="1727280"/>
            </a:xfrm>
            <a:custGeom>
              <a:avLst/>
              <a:gdLst>
                <a:gd name="textAreaLeft" fmla="*/ 0 w 1081080"/>
                <a:gd name="textAreaRight" fmla="*/ 1081080 w 108108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681" h="1088">
                  <a:moveTo>
                    <a:pt x="136" y="0"/>
                  </a:moveTo>
                  <a:cubicBezTo>
                    <a:pt x="109" y="49"/>
                    <a:pt x="83" y="98"/>
                    <a:pt x="136" y="136"/>
                  </a:cubicBezTo>
                  <a:cubicBezTo>
                    <a:pt x="189" y="174"/>
                    <a:pt x="378" y="151"/>
                    <a:pt x="454" y="227"/>
                  </a:cubicBezTo>
                  <a:cubicBezTo>
                    <a:pt x="530" y="303"/>
                    <a:pt x="620" y="514"/>
                    <a:pt x="590" y="590"/>
                  </a:cubicBezTo>
                  <a:cubicBezTo>
                    <a:pt x="560" y="666"/>
                    <a:pt x="363" y="665"/>
                    <a:pt x="272" y="680"/>
                  </a:cubicBezTo>
                  <a:cubicBezTo>
                    <a:pt x="181" y="695"/>
                    <a:pt x="75" y="665"/>
                    <a:pt x="45" y="680"/>
                  </a:cubicBezTo>
                  <a:cubicBezTo>
                    <a:pt x="15" y="695"/>
                    <a:pt x="0" y="756"/>
                    <a:pt x="91" y="771"/>
                  </a:cubicBezTo>
                  <a:cubicBezTo>
                    <a:pt x="182" y="786"/>
                    <a:pt x="499" y="718"/>
                    <a:pt x="590" y="771"/>
                  </a:cubicBezTo>
                  <a:cubicBezTo>
                    <a:pt x="681" y="824"/>
                    <a:pt x="628" y="1035"/>
                    <a:pt x="635" y="1088"/>
                  </a:cubicBezTo>
                </a:path>
              </a:pathLst>
            </a:cu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Text Box 18"/>
          <p:cNvSpPr/>
          <p:nvPr/>
        </p:nvSpPr>
        <p:spPr>
          <a:xfrm rot="3768600">
            <a:off x="6760440" y="24915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RIÑ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9"/>
          <p:cNvSpPr/>
          <p:nvPr/>
        </p:nvSpPr>
        <p:spPr>
          <a:xfrm>
            <a:off x="5076720" y="4292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BI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0"/>
          <p:cNvSpPr/>
          <p:nvPr/>
        </p:nvSpPr>
        <p:spPr>
          <a:xfrm>
            <a:off x="7667640" y="4292640"/>
            <a:ext cx="13683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UR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21"/>
          <p:cNvSpPr/>
          <p:nvPr/>
        </p:nvSpPr>
        <p:spPr>
          <a:xfrm>
            <a:off x="7488360" y="5254560"/>
            <a:ext cx="16556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UROBI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22"/>
          <p:cNvSpPr/>
          <p:nvPr/>
        </p:nvSpPr>
        <p:spPr>
          <a:xfrm>
            <a:off x="3276720" y="6308640"/>
            <a:ext cx="194292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3"/>
          <p:cNvSpPr/>
          <p:nvPr/>
        </p:nvSpPr>
        <p:spPr>
          <a:xfrm>
            <a:off x="324000" y="6308640"/>
            <a:ext cx="24462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BI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24"/>
          <p:cNvSpPr/>
          <p:nvPr/>
        </p:nvSpPr>
        <p:spPr>
          <a:xfrm>
            <a:off x="4859280" y="2205000"/>
            <a:ext cx="19432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25"/>
          <p:cNvSpPr/>
          <p:nvPr/>
        </p:nvSpPr>
        <p:spPr>
          <a:xfrm>
            <a:off x="3448080" y="1773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26"/>
          <p:cNvSpPr/>
          <p:nvPr/>
        </p:nvSpPr>
        <p:spPr>
          <a:xfrm>
            <a:off x="3419640" y="2781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27"/>
          <p:cNvSpPr/>
          <p:nvPr/>
        </p:nvSpPr>
        <p:spPr>
          <a:xfrm>
            <a:off x="4932360" y="4221000"/>
            <a:ext cx="0" cy="540000"/>
          </a:xfrm>
          <a:prstGeom prst="line">
            <a:avLst/>
          </a:prstGeom>
          <a:ln w="38160">
            <a:solidFill>
              <a:srgbClr val="bc4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28"/>
          <p:cNvSpPr/>
          <p:nvPr/>
        </p:nvSpPr>
        <p:spPr>
          <a:xfrm rot="15972600">
            <a:off x="2949120" y="3898440"/>
            <a:ext cx="801720" cy="2452680"/>
          </a:xfrm>
          <a:custGeom>
            <a:avLst/>
            <a:gdLst>
              <a:gd name="textAreaLeft" fmla="*/ 461160 w 801720"/>
              <a:gd name="textAreaRight" fmla="*/ 739800 w 801720"/>
              <a:gd name="textAreaTop" fmla="*/ 542880 h 2452680"/>
              <a:gd name="textAreaBottom" fmla="*/ 837720 h 24526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751" y="0"/>
                </a:lnTo>
                <a:lnTo>
                  <a:pt x="13751" y="4781"/>
                </a:lnTo>
                <a:lnTo>
                  <a:pt x="12427" y="4781"/>
                </a:lnTo>
                <a:cubicBezTo>
                  <a:pt x="5564" y="4781"/>
                  <a:pt x="0" y="8084"/>
                  <a:pt x="0" y="12158"/>
                </a:cubicBezTo>
                <a:lnTo>
                  <a:pt x="0" y="21600"/>
                </a:lnTo>
                <a:lnTo>
                  <a:pt x="2653" y="21600"/>
                </a:lnTo>
                <a:lnTo>
                  <a:pt x="2653" y="12158"/>
                </a:lnTo>
                <a:cubicBezTo>
                  <a:pt x="2653" y="9518"/>
                  <a:pt x="7029" y="7377"/>
                  <a:pt x="12427" y="7377"/>
                </a:cubicBezTo>
                <a:lnTo>
                  <a:pt x="13751" y="7377"/>
                </a:lnTo>
                <a:lnTo>
                  <a:pt x="13751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29"/>
          <p:cNvSpPr/>
          <p:nvPr/>
        </p:nvSpPr>
        <p:spPr>
          <a:xfrm rot="5400000">
            <a:off x="5293440" y="6284160"/>
            <a:ext cx="262080" cy="743040"/>
          </a:xfrm>
          <a:custGeom>
            <a:avLst/>
            <a:gdLst>
              <a:gd name="textAreaLeft" fmla="*/ 34920 w 262080"/>
              <a:gd name="textAreaRight" fmla="*/ 227160 w 262080"/>
              <a:gd name="textAreaTop" fmla="*/ 129960 h 743040"/>
              <a:gd name="textAreaBottom" fmla="*/ 538920 h 7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30"/>
          <p:cNvSpPr/>
          <p:nvPr/>
        </p:nvSpPr>
        <p:spPr>
          <a:xfrm flipH="1">
            <a:off x="2482920" y="6524640"/>
            <a:ext cx="504720" cy="0"/>
          </a:xfrm>
          <a:prstGeom prst="line">
            <a:avLst/>
          </a:prstGeom>
          <a:ln w="4752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31"/>
          <p:cNvSpPr/>
          <p:nvPr/>
        </p:nvSpPr>
        <p:spPr>
          <a:xfrm>
            <a:off x="8459640" y="3716280"/>
            <a:ext cx="0" cy="539640"/>
          </a:xfrm>
          <a:prstGeom prst="line">
            <a:avLst/>
          </a:prstGeom>
          <a:ln w="38160">
            <a:solidFill>
              <a:srgbClr val="bc4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32"/>
          <p:cNvSpPr/>
          <p:nvPr/>
        </p:nvSpPr>
        <p:spPr>
          <a:xfrm>
            <a:off x="8459640" y="4724280"/>
            <a:ext cx="0" cy="540000"/>
          </a:xfrm>
          <a:prstGeom prst="line">
            <a:avLst/>
          </a:prstGeom>
          <a:ln w="3816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33"/>
          <p:cNvSpPr/>
          <p:nvPr/>
        </p:nvSpPr>
        <p:spPr>
          <a:xfrm>
            <a:off x="1547640" y="5300640"/>
            <a:ext cx="19432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34"/>
          <p:cNvSpPr/>
          <p:nvPr/>
        </p:nvSpPr>
        <p:spPr>
          <a:xfrm>
            <a:off x="5076720" y="2852640"/>
            <a:ext cx="1656000" cy="432000"/>
          </a:xfrm>
          <a:custGeom>
            <a:avLst/>
            <a:gdLst>
              <a:gd name="textAreaLeft" fmla="*/ 952920 w 1656000"/>
              <a:gd name="textAreaRight" fmla="*/ 1397520 w 1656000"/>
              <a:gd name="textAreaTop" fmla="*/ 57960 h 432000"/>
              <a:gd name="textAreaBottom" fmla="*/ 1850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9"/>
          <p:cNvSpPr/>
          <p:nvPr/>
        </p:nvSpPr>
        <p:spPr>
          <a:xfrm>
            <a:off x="1619280" y="2133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40"/>
          <p:cNvSpPr/>
          <p:nvPr/>
        </p:nvSpPr>
        <p:spPr>
          <a:xfrm>
            <a:off x="4500720" y="206064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41"/>
          <p:cNvSpPr/>
          <p:nvPr/>
        </p:nvSpPr>
        <p:spPr>
          <a:xfrm>
            <a:off x="6948360" y="4221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2"/>
          <p:cNvSpPr/>
          <p:nvPr/>
        </p:nvSpPr>
        <p:spPr>
          <a:xfrm>
            <a:off x="0" y="6278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43"/>
          <p:cNvSpPr/>
          <p:nvPr/>
        </p:nvSpPr>
        <p:spPr>
          <a:xfrm>
            <a:off x="2987640" y="62341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4"/>
          <p:cNvSpPr/>
          <p:nvPr/>
        </p:nvSpPr>
        <p:spPr>
          <a:xfrm>
            <a:off x="6877080" y="5157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5"/>
          <p:cNvSpPr/>
          <p:nvPr/>
        </p:nvSpPr>
        <p:spPr>
          <a:xfrm>
            <a:off x="900000" y="5157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6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323640" y="2133360"/>
            <a:ext cx="4608360" cy="3382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73e87"/>
                </a:solidFill>
                <a:uFillTx/>
                <a:latin typeface="Candara"/>
              </a:rPr>
              <a:t>LUGAR DE SÍNTESIS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584d3"/>
                </a:solidFill>
                <a:latin typeface="Candara"/>
              </a:rPr>
              <a:t>Hígado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584d3"/>
                </a:solidFill>
                <a:latin typeface="Candara"/>
              </a:rPr>
              <a:t>Médula ósea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584d3"/>
                </a:solidFill>
                <a:latin typeface="Candara"/>
              </a:rPr>
              <a:t>Reticulocitos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solidFill>
            <a:srgbClr val="b7cdc5"/>
          </a:solidFill>
          <a:ln w="9360">
            <a:solidFill>
              <a:srgbClr val="008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ndara"/>
              </a:rPr>
              <a:t>BIOSINTESIS DEL HEMO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5219640" y="2205000"/>
            <a:ext cx="3527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ECURS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584d3"/>
                </a:solidFill>
                <a:latin typeface="Arial"/>
                <a:ea typeface="Arial"/>
              </a:rPr>
              <a:t>Glicin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3200" spc="-1" strike="noStrike">
                <a:solidFill>
                  <a:srgbClr val="4584d3"/>
                </a:solidFill>
                <a:latin typeface="Arial"/>
                <a:ea typeface="Arial"/>
              </a:rPr>
              <a:t>Succinil-C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3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Line 30"/>
          <p:cNvSpPr/>
          <p:nvPr/>
        </p:nvSpPr>
        <p:spPr>
          <a:xfrm flipH="1">
            <a:off x="2843280" y="6669000"/>
            <a:ext cx="504720" cy="0"/>
          </a:xfrm>
          <a:prstGeom prst="line">
            <a:avLst/>
          </a:prstGeom>
          <a:ln w="4752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5"/>
          <p:cNvSpPr/>
          <p:nvPr/>
        </p:nvSpPr>
        <p:spPr>
          <a:xfrm>
            <a:off x="2916360" y="1125360"/>
            <a:ext cx="1081080" cy="648000"/>
          </a:xfrm>
          <a:prstGeom prst="rect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2268360" y="2060640"/>
            <a:ext cx="208944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  <a:ea typeface="Arial"/>
              </a:rPr>
              <a:t>BILIRRUBINA (Indir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7"/>
          <p:cNvSpPr/>
          <p:nvPr/>
        </p:nvSpPr>
        <p:spPr>
          <a:xfrm>
            <a:off x="2050920" y="3141720"/>
            <a:ext cx="3732480" cy="1595520"/>
          </a:xfrm>
          <a:custGeom>
            <a:avLst/>
            <a:gdLst>
              <a:gd name="textAreaLeft" fmla="*/ 0 w 3732480"/>
              <a:gd name="textAreaRight" fmla="*/ 3732840 w 3732480"/>
              <a:gd name="textAreaTop" fmla="*/ 0 h 1595520"/>
              <a:gd name="textAreaBottom" fmla="*/ 1595880 h 1595520"/>
            </a:gdLst>
            <a:ahLst/>
            <a:rect l="textAreaLeft" t="textAreaTop" r="textAreaRight" b="textAreaBottom"/>
            <a:pathLst>
              <a:path w="2351" h="1005">
                <a:moveTo>
                  <a:pt x="136" y="680"/>
                </a:moveTo>
                <a:cubicBezTo>
                  <a:pt x="181" y="604"/>
                  <a:pt x="173" y="604"/>
                  <a:pt x="317" y="498"/>
                </a:cubicBezTo>
                <a:cubicBezTo>
                  <a:pt x="461" y="392"/>
                  <a:pt x="726" y="90"/>
                  <a:pt x="998" y="45"/>
                </a:cubicBezTo>
                <a:cubicBezTo>
                  <a:pt x="1270" y="0"/>
                  <a:pt x="1738" y="203"/>
                  <a:pt x="1950" y="226"/>
                </a:cubicBezTo>
                <a:cubicBezTo>
                  <a:pt x="2162" y="249"/>
                  <a:pt x="2215" y="121"/>
                  <a:pt x="2268" y="181"/>
                </a:cubicBezTo>
                <a:cubicBezTo>
                  <a:pt x="2321" y="241"/>
                  <a:pt x="2351" y="506"/>
                  <a:pt x="2268" y="589"/>
                </a:cubicBezTo>
                <a:cubicBezTo>
                  <a:pt x="2185" y="672"/>
                  <a:pt x="1943" y="620"/>
                  <a:pt x="1769" y="680"/>
                </a:cubicBezTo>
                <a:cubicBezTo>
                  <a:pt x="1595" y="740"/>
                  <a:pt x="1383" y="922"/>
                  <a:pt x="1224" y="952"/>
                </a:cubicBezTo>
                <a:cubicBezTo>
                  <a:pt x="1065" y="982"/>
                  <a:pt x="959" y="861"/>
                  <a:pt x="816" y="861"/>
                </a:cubicBezTo>
                <a:cubicBezTo>
                  <a:pt x="673" y="861"/>
                  <a:pt x="491" y="937"/>
                  <a:pt x="363" y="952"/>
                </a:cubicBezTo>
                <a:cubicBezTo>
                  <a:pt x="235" y="967"/>
                  <a:pt x="90" y="1005"/>
                  <a:pt x="45" y="952"/>
                </a:cubicBezTo>
                <a:cubicBezTo>
                  <a:pt x="0" y="899"/>
                  <a:pt x="91" y="756"/>
                  <a:pt x="136" y="68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9"/>
          <p:cNvSpPr/>
          <p:nvPr/>
        </p:nvSpPr>
        <p:spPr>
          <a:xfrm>
            <a:off x="2987640" y="357336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Gluc-Bilirrubina (Bil.  Dir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10"/>
          <p:cNvGrpSpPr/>
          <p:nvPr/>
        </p:nvGrpSpPr>
        <p:grpSpPr>
          <a:xfrm>
            <a:off x="6703920" y="1760400"/>
            <a:ext cx="1755720" cy="2268720"/>
            <a:chOff x="6703920" y="1760400"/>
            <a:chExt cx="1755720" cy="2268720"/>
          </a:xfrm>
        </p:grpSpPr>
        <p:sp>
          <p:nvSpPr>
            <p:cNvPr id="556" name="Freeform 11"/>
            <p:cNvSpPr/>
            <p:nvPr/>
          </p:nvSpPr>
          <p:spPr>
            <a:xfrm>
              <a:off x="6703920" y="1760400"/>
              <a:ext cx="1139760" cy="2268720"/>
            </a:xfrm>
            <a:custGeom>
              <a:avLst/>
              <a:gdLst>
                <a:gd name="textAreaLeft" fmla="*/ 0 w 1139760"/>
                <a:gd name="textAreaRight" fmla="*/ 1139760 w 1139760"/>
                <a:gd name="textAreaTop" fmla="*/ 0 h 2268720"/>
                <a:gd name="textAreaBottom" fmla="*/ 2269080 h 2268720"/>
              </a:gdLst>
              <a:ahLst/>
              <a:rect l="textAreaLeft" t="textAreaTop" r="textAreaRight" b="textAreaBottom"/>
              <a:pathLst>
                <a:path w="718" h="1429">
                  <a:moveTo>
                    <a:pt x="522" y="552"/>
                  </a:moveTo>
                  <a:cubicBezTo>
                    <a:pt x="529" y="431"/>
                    <a:pt x="718" y="326"/>
                    <a:pt x="703" y="235"/>
                  </a:cubicBezTo>
                  <a:cubicBezTo>
                    <a:pt x="688" y="144"/>
                    <a:pt x="522" y="16"/>
                    <a:pt x="431" y="8"/>
                  </a:cubicBezTo>
                  <a:cubicBezTo>
                    <a:pt x="340" y="0"/>
                    <a:pt x="227" y="53"/>
                    <a:pt x="159" y="189"/>
                  </a:cubicBezTo>
                  <a:cubicBezTo>
                    <a:pt x="91" y="325"/>
                    <a:pt x="0" y="635"/>
                    <a:pt x="23" y="824"/>
                  </a:cubicBezTo>
                  <a:cubicBezTo>
                    <a:pt x="46" y="1013"/>
                    <a:pt x="212" y="1232"/>
                    <a:pt x="295" y="1323"/>
                  </a:cubicBezTo>
                  <a:cubicBezTo>
                    <a:pt x="378" y="1414"/>
                    <a:pt x="462" y="1429"/>
                    <a:pt x="522" y="1369"/>
                  </a:cubicBezTo>
                  <a:cubicBezTo>
                    <a:pt x="582" y="1309"/>
                    <a:pt x="658" y="1096"/>
                    <a:pt x="658" y="960"/>
                  </a:cubicBezTo>
                  <a:cubicBezTo>
                    <a:pt x="658" y="824"/>
                    <a:pt x="515" y="673"/>
                    <a:pt x="522" y="552"/>
                  </a:cubicBezTo>
                  <a:close/>
                </a:path>
              </a:pathLst>
            </a:custGeom>
            <a:solidFill>
              <a:srgbClr val="bc406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2"/>
            <p:cNvSpPr/>
            <p:nvPr/>
          </p:nvSpPr>
          <p:spPr>
            <a:xfrm>
              <a:off x="7524720" y="2492280"/>
              <a:ext cx="934920" cy="100656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1006560"/>
                <a:gd name="textAreaBottom" fmla="*/ 1006920 h 1006560"/>
              </a:gdLst>
              <a:ahLst/>
              <a:rect l="textAreaLeft" t="textAreaTop" r="textAreaRight" b="textAreaBottom"/>
              <a:pathLst>
                <a:path w="589" h="634">
                  <a:moveTo>
                    <a:pt x="0" y="90"/>
                  </a:moveTo>
                  <a:cubicBezTo>
                    <a:pt x="132" y="45"/>
                    <a:pt x="265" y="0"/>
                    <a:pt x="363" y="90"/>
                  </a:cubicBezTo>
                  <a:cubicBezTo>
                    <a:pt x="461" y="180"/>
                    <a:pt x="551" y="543"/>
                    <a:pt x="589" y="63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3"/>
            <p:cNvSpPr/>
            <p:nvPr/>
          </p:nvSpPr>
          <p:spPr>
            <a:xfrm>
              <a:off x="7675560" y="2840040"/>
              <a:ext cx="649440" cy="660240"/>
            </a:xfrm>
            <a:custGeom>
              <a:avLst/>
              <a:gdLst>
                <a:gd name="textAreaLeft" fmla="*/ 0 w 649440"/>
                <a:gd name="textAreaRight" fmla="*/ 649800 w 64944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409" h="416">
                  <a:moveTo>
                    <a:pt x="0" y="99"/>
                  </a:moveTo>
                  <a:cubicBezTo>
                    <a:pt x="79" y="49"/>
                    <a:pt x="159" y="0"/>
                    <a:pt x="227" y="53"/>
                  </a:cubicBezTo>
                  <a:cubicBezTo>
                    <a:pt x="295" y="106"/>
                    <a:pt x="379" y="356"/>
                    <a:pt x="409" y="4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14"/>
          <p:cNvGrpSpPr/>
          <p:nvPr/>
        </p:nvGrpSpPr>
        <p:grpSpPr>
          <a:xfrm>
            <a:off x="4524480" y="4789440"/>
            <a:ext cx="1344600" cy="1871640"/>
            <a:chOff x="4524480" y="4789440"/>
            <a:chExt cx="1344600" cy="1871640"/>
          </a:xfrm>
        </p:grpSpPr>
        <p:sp>
          <p:nvSpPr>
            <p:cNvPr id="560" name="Freeform 15"/>
            <p:cNvSpPr/>
            <p:nvPr/>
          </p:nvSpPr>
          <p:spPr>
            <a:xfrm>
              <a:off x="4524480" y="4789440"/>
              <a:ext cx="1199880" cy="1871640"/>
            </a:xfrm>
            <a:custGeom>
              <a:avLst/>
              <a:gdLst>
                <a:gd name="textAreaLeft" fmla="*/ 0 w 1199880"/>
                <a:gd name="textAreaRight" fmla="*/ 1200240 w 1199880"/>
                <a:gd name="textAreaTop" fmla="*/ 0 h 1871640"/>
                <a:gd name="textAreaBottom" fmla="*/ 1872000 h 1871640"/>
              </a:gdLst>
              <a:ahLst/>
              <a:rect l="textAreaLeft" t="textAreaTop" r="textAreaRight" b="textAreaBottom"/>
              <a:pathLst>
                <a:path w="756" h="1179">
                  <a:moveTo>
                    <a:pt x="121" y="0"/>
                  </a:moveTo>
                  <a:cubicBezTo>
                    <a:pt x="102" y="106"/>
                    <a:pt x="83" y="212"/>
                    <a:pt x="121" y="272"/>
                  </a:cubicBezTo>
                  <a:cubicBezTo>
                    <a:pt x="159" y="332"/>
                    <a:pt x="280" y="348"/>
                    <a:pt x="348" y="363"/>
                  </a:cubicBezTo>
                  <a:cubicBezTo>
                    <a:pt x="416" y="378"/>
                    <a:pt x="491" y="333"/>
                    <a:pt x="529" y="363"/>
                  </a:cubicBezTo>
                  <a:cubicBezTo>
                    <a:pt x="567" y="393"/>
                    <a:pt x="649" y="506"/>
                    <a:pt x="574" y="544"/>
                  </a:cubicBezTo>
                  <a:cubicBezTo>
                    <a:pt x="499" y="582"/>
                    <a:pt x="150" y="537"/>
                    <a:pt x="75" y="590"/>
                  </a:cubicBezTo>
                  <a:cubicBezTo>
                    <a:pt x="0" y="643"/>
                    <a:pt x="23" y="809"/>
                    <a:pt x="121" y="862"/>
                  </a:cubicBezTo>
                  <a:cubicBezTo>
                    <a:pt x="219" y="915"/>
                    <a:pt x="574" y="854"/>
                    <a:pt x="665" y="907"/>
                  </a:cubicBezTo>
                  <a:cubicBezTo>
                    <a:pt x="756" y="960"/>
                    <a:pt x="665" y="1134"/>
                    <a:pt x="665" y="1179"/>
                  </a:cubicBezTo>
                </a:path>
              </a:pathLst>
            </a:cu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6"/>
            <p:cNvSpPr/>
            <p:nvPr/>
          </p:nvSpPr>
          <p:spPr>
            <a:xfrm>
              <a:off x="4788000" y="4797360"/>
              <a:ext cx="1081080" cy="1727280"/>
            </a:xfrm>
            <a:custGeom>
              <a:avLst/>
              <a:gdLst>
                <a:gd name="textAreaLeft" fmla="*/ 0 w 1081080"/>
                <a:gd name="textAreaRight" fmla="*/ 1081080 w 108108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681" h="1088">
                  <a:moveTo>
                    <a:pt x="136" y="0"/>
                  </a:moveTo>
                  <a:cubicBezTo>
                    <a:pt x="109" y="49"/>
                    <a:pt x="83" y="98"/>
                    <a:pt x="136" y="136"/>
                  </a:cubicBezTo>
                  <a:cubicBezTo>
                    <a:pt x="189" y="174"/>
                    <a:pt x="378" y="151"/>
                    <a:pt x="454" y="227"/>
                  </a:cubicBezTo>
                  <a:cubicBezTo>
                    <a:pt x="530" y="303"/>
                    <a:pt x="620" y="514"/>
                    <a:pt x="590" y="590"/>
                  </a:cubicBezTo>
                  <a:cubicBezTo>
                    <a:pt x="560" y="666"/>
                    <a:pt x="363" y="665"/>
                    <a:pt x="272" y="680"/>
                  </a:cubicBezTo>
                  <a:cubicBezTo>
                    <a:pt x="181" y="695"/>
                    <a:pt x="75" y="665"/>
                    <a:pt x="45" y="680"/>
                  </a:cubicBezTo>
                  <a:cubicBezTo>
                    <a:pt x="15" y="695"/>
                    <a:pt x="0" y="756"/>
                    <a:pt x="91" y="771"/>
                  </a:cubicBezTo>
                  <a:cubicBezTo>
                    <a:pt x="182" y="786"/>
                    <a:pt x="499" y="718"/>
                    <a:pt x="590" y="771"/>
                  </a:cubicBezTo>
                  <a:cubicBezTo>
                    <a:pt x="681" y="824"/>
                    <a:pt x="628" y="1035"/>
                    <a:pt x="635" y="1088"/>
                  </a:cubicBezTo>
                </a:path>
              </a:pathLst>
            </a:cu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Text Box 18"/>
          <p:cNvSpPr/>
          <p:nvPr/>
        </p:nvSpPr>
        <p:spPr>
          <a:xfrm rot="3768600">
            <a:off x="6731640" y="24915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RIÑ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9"/>
          <p:cNvSpPr/>
          <p:nvPr/>
        </p:nvSpPr>
        <p:spPr>
          <a:xfrm>
            <a:off x="5076720" y="4292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BI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20"/>
          <p:cNvSpPr/>
          <p:nvPr/>
        </p:nvSpPr>
        <p:spPr>
          <a:xfrm>
            <a:off x="7667640" y="4292640"/>
            <a:ext cx="13683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UR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21"/>
          <p:cNvSpPr/>
          <p:nvPr/>
        </p:nvSpPr>
        <p:spPr>
          <a:xfrm>
            <a:off x="7488360" y="5734080"/>
            <a:ext cx="16556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UROBI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3"/>
          <p:cNvSpPr/>
          <p:nvPr/>
        </p:nvSpPr>
        <p:spPr>
          <a:xfrm>
            <a:off x="612720" y="6451560"/>
            <a:ext cx="24465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BI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25"/>
          <p:cNvSpPr/>
          <p:nvPr/>
        </p:nvSpPr>
        <p:spPr>
          <a:xfrm>
            <a:off x="3419640" y="1773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26"/>
          <p:cNvSpPr/>
          <p:nvPr/>
        </p:nvSpPr>
        <p:spPr>
          <a:xfrm>
            <a:off x="3419640" y="2781360"/>
            <a:ext cx="0" cy="36036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27"/>
          <p:cNvSpPr/>
          <p:nvPr/>
        </p:nvSpPr>
        <p:spPr>
          <a:xfrm>
            <a:off x="4932360" y="4221000"/>
            <a:ext cx="0" cy="540000"/>
          </a:xfrm>
          <a:prstGeom prst="line">
            <a:avLst/>
          </a:prstGeom>
          <a:ln w="38160">
            <a:solidFill>
              <a:srgbClr val="bc4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28"/>
          <p:cNvSpPr/>
          <p:nvPr/>
        </p:nvSpPr>
        <p:spPr>
          <a:xfrm rot="15972600">
            <a:off x="2949120" y="3898440"/>
            <a:ext cx="801720" cy="2452680"/>
          </a:xfrm>
          <a:custGeom>
            <a:avLst/>
            <a:gdLst>
              <a:gd name="textAreaLeft" fmla="*/ 461160 w 801720"/>
              <a:gd name="textAreaRight" fmla="*/ 739800 w 801720"/>
              <a:gd name="textAreaTop" fmla="*/ 542880 h 2452680"/>
              <a:gd name="textAreaBottom" fmla="*/ 837720 h 24526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751" y="0"/>
                </a:lnTo>
                <a:lnTo>
                  <a:pt x="13751" y="4781"/>
                </a:lnTo>
                <a:lnTo>
                  <a:pt x="12427" y="4781"/>
                </a:lnTo>
                <a:cubicBezTo>
                  <a:pt x="5564" y="4781"/>
                  <a:pt x="0" y="8084"/>
                  <a:pt x="0" y="12158"/>
                </a:cubicBezTo>
                <a:lnTo>
                  <a:pt x="0" y="21600"/>
                </a:lnTo>
                <a:lnTo>
                  <a:pt x="2653" y="21600"/>
                </a:lnTo>
                <a:lnTo>
                  <a:pt x="2653" y="12158"/>
                </a:lnTo>
                <a:cubicBezTo>
                  <a:pt x="2653" y="9518"/>
                  <a:pt x="7029" y="7377"/>
                  <a:pt x="12427" y="7377"/>
                </a:cubicBezTo>
                <a:lnTo>
                  <a:pt x="13751" y="7377"/>
                </a:lnTo>
                <a:lnTo>
                  <a:pt x="13751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29"/>
          <p:cNvSpPr/>
          <p:nvPr/>
        </p:nvSpPr>
        <p:spPr>
          <a:xfrm rot="5400000">
            <a:off x="5293440" y="6284160"/>
            <a:ext cx="262080" cy="743040"/>
          </a:xfrm>
          <a:custGeom>
            <a:avLst/>
            <a:gdLst>
              <a:gd name="textAreaLeft" fmla="*/ 34920 w 262080"/>
              <a:gd name="textAreaRight" fmla="*/ 227160 w 262080"/>
              <a:gd name="textAreaTop" fmla="*/ 129960 h 743040"/>
              <a:gd name="textAreaBottom" fmla="*/ 538920 h 7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31"/>
          <p:cNvSpPr/>
          <p:nvPr/>
        </p:nvSpPr>
        <p:spPr>
          <a:xfrm>
            <a:off x="8459640" y="3716280"/>
            <a:ext cx="0" cy="539640"/>
          </a:xfrm>
          <a:prstGeom prst="line">
            <a:avLst/>
          </a:prstGeom>
          <a:ln w="38160">
            <a:solidFill>
              <a:srgbClr val="bc4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32"/>
          <p:cNvSpPr/>
          <p:nvPr/>
        </p:nvSpPr>
        <p:spPr>
          <a:xfrm>
            <a:off x="8459640" y="4724280"/>
            <a:ext cx="0" cy="540000"/>
          </a:xfrm>
          <a:prstGeom prst="line">
            <a:avLst/>
          </a:prstGeom>
          <a:ln w="3816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33"/>
          <p:cNvSpPr/>
          <p:nvPr/>
        </p:nvSpPr>
        <p:spPr>
          <a:xfrm>
            <a:off x="1547640" y="5300640"/>
            <a:ext cx="19432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34"/>
          <p:cNvSpPr/>
          <p:nvPr/>
        </p:nvSpPr>
        <p:spPr>
          <a:xfrm>
            <a:off x="5076720" y="2852640"/>
            <a:ext cx="1656000" cy="432000"/>
          </a:xfrm>
          <a:custGeom>
            <a:avLst/>
            <a:gdLst>
              <a:gd name="textAreaLeft" fmla="*/ 952920 w 1656000"/>
              <a:gd name="textAreaRight" fmla="*/ 1397520 w 1656000"/>
              <a:gd name="textAreaTop" fmla="*/ 57960 h 432000"/>
              <a:gd name="textAreaBottom" fmla="*/ 1850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9"/>
          <p:cNvSpPr/>
          <p:nvPr/>
        </p:nvSpPr>
        <p:spPr>
          <a:xfrm>
            <a:off x="612720" y="216000"/>
            <a:ext cx="8229600" cy="936360"/>
          </a:xfrm>
          <a:prstGeom prst="rect">
            <a:avLst/>
          </a:prstGeom>
          <a:gradFill rotWithShape="0">
            <a:gsLst>
              <a:gs pos="0">
                <a:srgbClr val="2c5176"/>
              </a:gs>
              <a:gs pos="50000">
                <a:srgbClr val="5eaeff"/>
              </a:gs>
              <a:gs pos="100000">
                <a:srgbClr val="2c51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Ictericia por Insuficiencia Hep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41"/>
          <p:cNvSpPr/>
          <p:nvPr/>
        </p:nvSpPr>
        <p:spPr>
          <a:xfrm>
            <a:off x="3132000" y="3213000"/>
            <a:ext cx="1513080" cy="1440000"/>
          </a:xfrm>
          <a:custGeom>
            <a:avLst/>
            <a:gdLst>
              <a:gd name="textAreaLeft" fmla="*/ 221400 w 1513080"/>
              <a:gd name="textAreaRight" fmla="*/ 1291680 w 1513080"/>
              <a:gd name="textAreaTop" fmla="*/ 210600 h 1440000"/>
              <a:gd name="textAreaBottom" fmla="*/ 12294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8066" y="17346"/>
                </a:moveTo>
                <a:cubicBezTo>
                  <a:pt x="19684" y="15549"/>
                  <a:pt x="20580" y="13217"/>
                  <a:pt x="20580" y="10800"/>
                </a:cubicBezTo>
                <a:cubicBezTo>
                  <a:pt x="20580" y="5398"/>
                  <a:pt x="16201" y="1020"/>
                  <a:pt x="10800" y="1020"/>
                </a:cubicBezTo>
                <a:cubicBezTo>
                  <a:pt x="8382" y="1019"/>
                  <a:pt x="6050" y="1915"/>
                  <a:pt x="4253" y="3533"/>
                </a:cubicBezTo>
                <a:lnTo>
                  <a:pt x="18066" y="17346"/>
                </a:lnTo>
                <a:close/>
                <a:moveTo>
                  <a:pt x="3533" y="4253"/>
                </a:moveTo>
                <a:cubicBezTo>
                  <a:pt x="1915" y="6050"/>
                  <a:pt x="1020" y="8382"/>
                  <a:pt x="1020" y="10799"/>
                </a:cubicBezTo>
                <a:cubicBezTo>
                  <a:pt x="1020" y="16201"/>
                  <a:pt x="5398" y="20580"/>
                  <a:pt x="10800" y="20580"/>
                </a:cubicBezTo>
                <a:cubicBezTo>
                  <a:pt x="13217" y="20580"/>
                  <a:pt x="15549" y="19684"/>
                  <a:pt x="17346" y="18066"/>
                </a:cubicBezTo>
                <a:lnTo>
                  <a:pt x="3533" y="4253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42"/>
          <p:cNvSpPr/>
          <p:nvPr/>
        </p:nvSpPr>
        <p:spPr>
          <a:xfrm rot="20014200">
            <a:off x="3708360" y="2636640"/>
            <a:ext cx="576360" cy="649080"/>
          </a:xfrm>
          <a:custGeom>
            <a:avLst/>
            <a:gdLst>
              <a:gd name="textAreaLeft" fmla="*/ 0 w 576360"/>
              <a:gd name="textAreaRight" fmla="*/ 484560 w 576360"/>
              <a:gd name="textAreaTop" fmla="*/ 55224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16793" y="0"/>
                </a:moveTo>
                <a:lnTo>
                  <a:pt x="11985" y="7182"/>
                </a:lnTo>
                <a:lnTo>
                  <a:pt x="15436" y="7182"/>
                </a:lnTo>
                <a:lnTo>
                  <a:pt x="15436" y="18371"/>
                </a:lnTo>
                <a:lnTo>
                  <a:pt x="0" y="18371"/>
                </a:lnTo>
                <a:lnTo>
                  <a:pt x="0" y="21600"/>
                </a:lnTo>
                <a:lnTo>
                  <a:pt x="18149" y="21600"/>
                </a:lnTo>
                <a:lnTo>
                  <a:pt x="18149" y="7182"/>
                </a:lnTo>
                <a:lnTo>
                  <a:pt x="21600" y="7182"/>
                </a:lnTo>
                <a:lnTo>
                  <a:pt x="16793" y="0"/>
                </a:lnTo>
                <a:close/>
              </a:path>
            </a:pathLst>
          </a:custGeom>
          <a:solidFill>
            <a:srgbClr val="4584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3"/>
          <p:cNvSpPr/>
          <p:nvPr/>
        </p:nvSpPr>
        <p:spPr>
          <a:xfrm>
            <a:off x="4930920" y="1773360"/>
            <a:ext cx="20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  <a:ea typeface="Arial"/>
              </a:rPr>
              <a:t>BILIRRUBINA Dire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50" descr="ARRWC012"/>
          <p:cNvPicPr/>
          <p:nvPr/>
        </p:nvPicPr>
        <p:blipFill>
          <a:blip r:embed="rId2"/>
          <a:stretch/>
        </p:blipFill>
        <p:spPr>
          <a:xfrm>
            <a:off x="1692360" y="1844640"/>
            <a:ext cx="655560" cy="86364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51" descr="ARRWC012"/>
          <p:cNvPicPr/>
          <p:nvPr/>
        </p:nvPicPr>
        <p:blipFill>
          <a:blip r:embed="rId3"/>
          <a:stretch/>
        </p:blipFill>
        <p:spPr>
          <a:xfrm>
            <a:off x="4427640" y="1628640"/>
            <a:ext cx="655560" cy="8636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52" descr="ARRWC012"/>
          <p:cNvPicPr/>
          <p:nvPr/>
        </p:nvPicPr>
        <p:blipFill>
          <a:blip r:embed="rId4"/>
          <a:stretch/>
        </p:blipFill>
        <p:spPr>
          <a:xfrm rot="10672800">
            <a:off x="6876720" y="4149360"/>
            <a:ext cx="655560" cy="86364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53" descr="ARRWC012"/>
          <p:cNvPicPr/>
          <p:nvPr/>
        </p:nvPicPr>
        <p:blipFill>
          <a:blip r:embed="rId5"/>
          <a:stretch/>
        </p:blipFill>
        <p:spPr>
          <a:xfrm rot="10672800">
            <a:off x="6732360" y="5444640"/>
            <a:ext cx="655560" cy="8636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55" descr="ARRWC012"/>
          <p:cNvPicPr/>
          <p:nvPr/>
        </p:nvPicPr>
        <p:blipFill>
          <a:blip r:embed="rId6"/>
          <a:stretch/>
        </p:blipFill>
        <p:spPr>
          <a:xfrm rot="10672800">
            <a:off x="0" y="5994000"/>
            <a:ext cx="655560" cy="86364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22"/>
          <p:cNvSpPr/>
          <p:nvPr/>
        </p:nvSpPr>
        <p:spPr>
          <a:xfrm>
            <a:off x="3564000" y="6451560"/>
            <a:ext cx="19429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54" descr="ARRWC012"/>
          <p:cNvPicPr/>
          <p:nvPr/>
        </p:nvPicPr>
        <p:blipFill>
          <a:blip r:embed="rId7"/>
          <a:stretch/>
        </p:blipFill>
        <p:spPr>
          <a:xfrm rot="10672800">
            <a:off x="3052440" y="5994000"/>
            <a:ext cx="655560" cy="8636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56" descr="ARRWC012"/>
          <p:cNvPicPr/>
          <p:nvPr/>
        </p:nvPicPr>
        <p:blipFill>
          <a:blip r:embed="rId8"/>
          <a:stretch/>
        </p:blipFill>
        <p:spPr>
          <a:xfrm rot="10672800">
            <a:off x="900000" y="4723560"/>
            <a:ext cx="655920" cy="863640"/>
          </a:xfrm>
          <a:prstGeom prst="rect">
            <a:avLst/>
          </a:prstGeom>
          <a:ln w="0">
            <a:noFill/>
          </a:ln>
        </p:spPr>
      </p:pic>
      <p:sp>
        <p:nvSpPr>
          <p:cNvPr id="588" name="Oval 57"/>
          <p:cNvSpPr/>
          <p:nvPr/>
        </p:nvSpPr>
        <p:spPr>
          <a:xfrm>
            <a:off x="6443640" y="1125360"/>
            <a:ext cx="2305080" cy="358920"/>
          </a:xfrm>
          <a:prstGeom prst="ellipse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rina Color osc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58"/>
          <p:cNvSpPr/>
          <p:nvPr/>
        </p:nvSpPr>
        <p:spPr>
          <a:xfrm flipV="1">
            <a:off x="6300720" y="1483920"/>
            <a:ext cx="432000" cy="14436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59" descr="ARRWC008"/>
          <p:cNvPicPr/>
          <p:nvPr/>
        </p:nvPicPr>
        <p:blipFill>
          <a:blip r:embed="rId9"/>
          <a:stretch/>
        </p:blipFill>
        <p:spPr>
          <a:xfrm rot="2505600">
            <a:off x="4716000" y="1916280"/>
            <a:ext cx="304920" cy="16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0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5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5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8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1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4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5"/>
          <p:cNvSpPr/>
          <p:nvPr/>
        </p:nvSpPr>
        <p:spPr>
          <a:xfrm>
            <a:off x="2916360" y="1322280"/>
            <a:ext cx="1081080" cy="647640"/>
          </a:xfrm>
          <a:prstGeom prst="rect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6"/>
          <p:cNvSpPr/>
          <p:nvPr/>
        </p:nvSpPr>
        <p:spPr>
          <a:xfrm>
            <a:off x="2268360" y="2257560"/>
            <a:ext cx="20894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BILIRRUBINA (Indir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7"/>
          <p:cNvSpPr/>
          <p:nvPr/>
        </p:nvSpPr>
        <p:spPr>
          <a:xfrm>
            <a:off x="2195640" y="3213000"/>
            <a:ext cx="3732120" cy="1595520"/>
          </a:xfrm>
          <a:custGeom>
            <a:avLst/>
            <a:gdLst>
              <a:gd name="textAreaLeft" fmla="*/ 0 w 3732120"/>
              <a:gd name="textAreaRight" fmla="*/ 3732480 w 3732120"/>
              <a:gd name="textAreaTop" fmla="*/ 0 h 1595520"/>
              <a:gd name="textAreaBottom" fmla="*/ 1595880 h 1595520"/>
            </a:gdLst>
            <a:ahLst/>
            <a:rect l="textAreaLeft" t="textAreaTop" r="textAreaRight" b="textAreaBottom"/>
            <a:pathLst>
              <a:path w="2351" h="1005">
                <a:moveTo>
                  <a:pt x="136" y="680"/>
                </a:moveTo>
                <a:cubicBezTo>
                  <a:pt x="181" y="604"/>
                  <a:pt x="173" y="604"/>
                  <a:pt x="317" y="498"/>
                </a:cubicBezTo>
                <a:cubicBezTo>
                  <a:pt x="461" y="392"/>
                  <a:pt x="726" y="90"/>
                  <a:pt x="998" y="45"/>
                </a:cubicBezTo>
                <a:cubicBezTo>
                  <a:pt x="1270" y="0"/>
                  <a:pt x="1738" y="203"/>
                  <a:pt x="1950" y="226"/>
                </a:cubicBezTo>
                <a:cubicBezTo>
                  <a:pt x="2162" y="249"/>
                  <a:pt x="2215" y="121"/>
                  <a:pt x="2268" y="181"/>
                </a:cubicBezTo>
                <a:cubicBezTo>
                  <a:pt x="2321" y="241"/>
                  <a:pt x="2351" y="506"/>
                  <a:pt x="2268" y="589"/>
                </a:cubicBezTo>
                <a:cubicBezTo>
                  <a:pt x="2185" y="672"/>
                  <a:pt x="1943" y="620"/>
                  <a:pt x="1769" y="680"/>
                </a:cubicBezTo>
                <a:cubicBezTo>
                  <a:pt x="1595" y="740"/>
                  <a:pt x="1383" y="922"/>
                  <a:pt x="1224" y="952"/>
                </a:cubicBezTo>
                <a:cubicBezTo>
                  <a:pt x="1065" y="982"/>
                  <a:pt x="959" y="861"/>
                  <a:pt x="816" y="861"/>
                </a:cubicBezTo>
                <a:cubicBezTo>
                  <a:pt x="673" y="861"/>
                  <a:pt x="491" y="937"/>
                  <a:pt x="363" y="952"/>
                </a:cubicBezTo>
                <a:cubicBezTo>
                  <a:pt x="235" y="967"/>
                  <a:pt x="90" y="1005"/>
                  <a:pt x="45" y="952"/>
                </a:cubicBezTo>
                <a:cubicBezTo>
                  <a:pt x="0" y="899"/>
                  <a:pt x="91" y="756"/>
                  <a:pt x="136" y="680"/>
                </a:cubicBezTo>
                <a:close/>
              </a:path>
            </a:pathLst>
          </a:custGeom>
          <a:solidFill>
            <a:srgbClr val="cc6600"/>
          </a:solidFill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2987640" y="377028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0e92d"/>
                </a:solidFill>
                <a:latin typeface="Arial"/>
                <a:ea typeface="Arial"/>
              </a:rPr>
              <a:t>Gluc-Bilirrubina (Bil.  Dir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Group 10"/>
          <p:cNvGrpSpPr/>
          <p:nvPr/>
        </p:nvGrpSpPr>
        <p:grpSpPr>
          <a:xfrm>
            <a:off x="6703920" y="1760400"/>
            <a:ext cx="1755720" cy="2268720"/>
            <a:chOff x="6703920" y="1760400"/>
            <a:chExt cx="1755720" cy="2268720"/>
          </a:xfrm>
        </p:grpSpPr>
        <p:sp>
          <p:nvSpPr>
            <p:cNvPr id="596" name="Freeform 11"/>
            <p:cNvSpPr/>
            <p:nvPr/>
          </p:nvSpPr>
          <p:spPr>
            <a:xfrm>
              <a:off x="6703920" y="1760400"/>
              <a:ext cx="1139760" cy="2268720"/>
            </a:xfrm>
            <a:custGeom>
              <a:avLst/>
              <a:gdLst>
                <a:gd name="textAreaLeft" fmla="*/ 0 w 1139760"/>
                <a:gd name="textAreaRight" fmla="*/ 1139760 w 1139760"/>
                <a:gd name="textAreaTop" fmla="*/ 0 h 2268720"/>
                <a:gd name="textAreaBottom" fmla="*/ 2269080 h 2268720"/>
              </a:gdLst>
              <a:ahLst/>
              <a:rect l="textAreaLeft" t="textAreaTop" r="textAreaRight" b="textAreaBottom"/>
              <a:pathLst>
                <a:path w="718" h="1429">
                  <a:moveTo>
                    <a:pt x="522" y="552"/>
                  </a:moveTo>
                  <a:cubicBezTo>
                    <a:pt x="529" y="431"/>
                    <a:pt x="718" y="326"/>
                    <a:pt x="703" y="235"/>
                  </a:cubicBezTo>
                  <a:cubicBezTo>
                    <a:pt x="688" y="144"/>
                    <a:pt x="522" y="16"/>
                    <a:pt x="431" y="8"/>
                  </a:cubicBezTo>
                  <a:cubicBezTo>
                    <a:pt x="340" y="0"/>
                    <a:pt x="227" y="53"/>
                    <a:pt x="159" y="189"/>
                  </a:cubicBezTo>
                  <a:cubicBezTo>
                    <a:pt x="91" y="325"/>
                    <a:pt x="0" y="635"/>
                    <a:pt x="23" y="824"/>
                  </a:cubicBezTo>
                  <a:cubicBezTo>
                    <a:pt x="46" y="1013"/>
                    <a:pt x="212" y="1232"/>
                    <a:pt x="295" y="1323"/>
                  </a:cubicBezTo>
                  <a:cubicBezTo>
                    <a:pt x="378" y="1414"/>
                    <a:pt x="462" y="1429"/>
                    <a:pt x="522" y="1369"/>
                  </a:cubicBezTo>
                  <a:cubicBezTo>
                    <a:pt x="582" y="1309"/>
                    <a:pt x="658" y="1096"/>
                    <a:pt x="658" y="960"/>
                  </a:cubicBezTo>
                  <a:cubicBezTo>
                    <a:pt x="658" y="824"/>
                    <a:pt x="515" y="673"/>
                    <a:pt x="522" y="552"/>
                  </a:cubicBezTo>
                  <a:close/>
                </a:path>
              </a:pathLst>
            </a:custGeom>
            <a:solidFill>
              <a:srgbClr val="bc406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2"/>
            <p:cNvSpPr/>
            <p:nvPr/>
          </p:nvSpPr>
          <p:spPr>
            <a:xfrm>
              <a:off x="7524720" y="2492280"/>
              <a:ext cx="934920" cy="100656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1006560"/>
                <a:gd name="textAreaBottom" fmla="*/ 1006920 h 1006560"/>
              </a:gdLst>
              <a:ahLst/>
              <a:rect l="textAreaLeft" t="textAreaTop" r="textAreaRight" b="textAreaBottom"/>
              <a:pathLst>
                <a:path w="589" h="634">
                  <a:moveTo>
                    <a:pt x="0" y="90"/>
                  </a:moveTo>
                  <a:cubicBezTo>
                    <a:pt x="132" y="45"/>
                    <a:pt x="265" y="0"/>
                    <a:pt x="363" y="90"/>
                  </a:cubicBezTo>
                  <a:cubicBezTo>
                    <a:pt x="461" y="180"/>
                    <a:pt x="551" y="543"/>
                    <a:pt x="589" y="63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3"/>
            <p:cNvSpPr/>
            <p:nvPr/>
          </p:nvSpPr>
          <p:spPr>
            <a:xfrm>
              <a:off x="7675560" y="2840040"/>
              <a:ext cx="649440" cy="660240"/>
            </a:xfrm>
            <a:custGeom>
              <a:avLst/>
              <a:gdLst>
                <a:gd name="textAreaLeft" fmla="*/ 0 w 649440"/>
                <a:gd name="textAreaRight" fmla="*/ 649800 w 64944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409" h="416">
                  <a:moveTo>
                    <a:pt x="0" y="99"/>
                  </a:moveTo>
                  <a:cubicBezTo>
                    <a:pt x="79" y="49"/>
                    <a:pt x="159" y="0"/>
                    <a:pt x="227" y="53"/>
                  </a:cubicBezTo>
                  <a:cubicBezTo>
                    <a:pt x="295" y="106"/>
                    <a:pt x="379" y="356"/>
                    <a:pt x="409" y="4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Group 14"/>
          <p:cNvGrpSpPr/>
          <p:nvPr/>
        </p:nvGrpSpPr>
        <p:grpSpPr>
          <a:xfrm>
            <a:off x="4500720" y="4986360"/>
            <a:ext cx="1344600" cy="1871640"/>
            <a:chOff x="4500720" y="4986360"/>
            <a:chExt cx="1344600" cy="1871640"/>
          </a:xfrm>
        </p:grpSpPr>
        <p:sp>
          <p:nvSpPr>
            <p:cNvPr id="600" name="Freeform 15"/>
            <p:cNvSpPr/>
            <p:nvPr/>
          </p:nvSpPr>
          <p:spPr>
            <a:xfrm>
              <a:off x="4500720" y="4986360"/>
              <a:ext cx="1199880" cy="1871640"/>
            </a:xfrm>
            <a:custGeom>
              <a:avLst/>
              <a:gdLst>
                <a:gd name="textAreaLeft" fmla="*/ 0 w 1199880"/>
                <a:gd name="textAreaRight" fmla="*/ 1200240 w 1199880"/>
                <a:gd name="textAreaTop" fmla="*/ 0 h 1871640"/>
                <a:gd name="textAreaBottom" fmla="*/ 1872000 h 1871640"/>
              </a:gdLst>
              <a:ahLst/>
              <a:rect l="textAreaLeft" t="textAreaTop" r="textAreaRight" b="textAreaBottom"/>
              <a:pathLst>
                <a:path w="756" h="1179">
                  <a:moveTo>
                    <a:pt x="121" y="0"/>
                  </a:moveTo>
                  <a:cubicBezTo>
                    <a:pt x="102" y="106"/>
                    <a:pt x="83" y="212"/>
                    <a:pt x="121" y="272"/>
                  </a:cubicBezTo>
                  <a:cubicBezTo>
                    <a:pt x="159" y="332"/>
                    <a:pt x="280" y="348"/>
                    <a:pt x="348" y="363"/>
                  </a:cubicBezTo>
                  <a:cubicBezTo>
                    <a:pt x="416" y="378"/>
                    <a:pt x="491" y="333"/>
                    <a:pt x="529" y="363"/>
                  </a:cubicBezTo>
                  <a:cubicBezTo>
                    <a:pt x="567" y="393"/>
                    <a:pt x="649" y="506"/>
                    <a:pt x="574" y="544"/>
                  </a:cubicBezTo>
                  <a:cubicBezTo>
                    <a:pt x="499" y="582"/>
                    <a:pt x="150" y="537"/>
                    <a:pt x="75" y="590"/>
                  </a:cubicBezTo>
                  <a:cubicBezTo>
                    <a:pt x="0" y="643"/>
                    <a:pt x="23" y="809"/>
                    <a:pt x="121" y="862"/>
                  </a:cubicBezTo>
                  <a:cubicBezTo>
                    <a:pt x="219" y="915"/>
                    <a:pt x="574" y="854"/>
                    <a:pt x="665" y="907"/>
                  </a:cubicBezTo>
                  <a:cubicBezTo>
                    <a:pt x="756" y="960"/>
                    <a:pt x="665" y="1134"/>
                    <a:pt x="665" y="1179"/>
                  </a:cubicBezTo>
                </a:path>
              </a:pathLst>
            </a:cu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6"/>
            <p:cNvSpPr/>
            <p:nvPr/>
          </p:nvSpPr>
          <p:spPr>
            <a:xfrm>
              <a:off x="4764240" y="4994280"/>
              <a:ext cx="1081080" cy="1727280"/>
            </a:xfrm>
            <a:custGeom>
              <a:avLst/>
              <a:gdLst>
                <a:gd name="textAreaLeft" fmla="*/ 0 w 1081080"/>
                <a:gd name="textAreaRight" fmla="*/ 1081080 w 108108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681" h="1088">
                  <a:moveTo>
                    <a:pt x="136" y="0"/>
                  </a:moveTo>
                  <a:cubicBezTo>
                    <a:pt x="109" y="49"/>
                    <a:pt x="83" y="98"/>
                    <a:pt x="136" y="136"/>
                  </a:cubicBezTo>
                  <a:cubicBezTo>
                    <a:pt x="189" y="174"/>
                    <a:pt x="378" y="151"/>
                    <a:pt x="454" y="227"/>
                  </a:cubicBezTo>
                  <a:cubicBezTo>
                    <a:pt x="530" y="303"/>
                    <a:pt x="620" y="514"/>
                    <a:pt x="590" y="590"/>
                  </a:cubicBezTo>
                  <a:cubicBezTo>
                    <a:pt x="560" y="666"/>
                    <a:pt x="363" y="665"/>
                    <a:pt x="272" y="680"/>
                  </a:cubicBezTo>
                  <a:cubicBezTo>
                    <a:pt x="181" y="695"/>
                    <a:pt x="75" y="665"/>
                    <a:pt x="45" y="680"/>
                  </a:cubicBezTo>
                  <a:cubicBezTo>
                    <a:pt x="15" y="695"/>
                    <a:pt x="0" y="756"/>
                    <a:pt x="91" y="771"/>
                  </a:cubicBezTo>
                  <a:cubicBezTo>
                    <a:pt x="182" y="786"/>
                    <a:pt x="499" y="718"/>
                    <a:pt x="590" y="771"/>
                  </a:cubicBezTo>
                  <a:cubicBezTo>
                    <a:pt x="681" y="824"/>
                    <a:pt x="628" y="1035"/>
                    <a:pt x="635" y="1088"/>
                  </a:cubicBezTo>
                </a:path>
              </a:pathLst>
            </a:custGeom>
            <a:solidFill>
              <a:srgbClr val="f2f6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Text Box 18"/>
          <p:cNvSpPr/>
          <p:nvPr/>
        </p:nvSpPr>
        <p:spPr>
          <a:xfrm rot="3768600">
            <a:off x="6731640" y="24915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RIÑ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9"/>
          <p:cNvSpPr/>
          <p:nvPr/>
        </p:nvSpPr>
        <p:spPr>
          <a:xfrm>
            <a:off x="5076720" y="4292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BI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20"/>
          <p:cNvSpPr/>
          <p:nvPr/>
        </p:nvSpPr>
        <p:spPr>
          <a:xfrm>
            <a:off x="7667640" y="4292640"/>
            <a:ext cx="1368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UR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21"/>
          <p:cNvSpPr/>
          <p:nvPr/>
        </p:nvSpPr>
        <p:spPr>
          <a:xfrm>
            <a:off x="7488360" y="5254560"/>
            <a:ext cx="16556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UROBI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22"/>
          <p:cNvSpPr/>
          <p:nvPr/>
        </p:nvSpPr>
        <p:spPr>
          <a:xfrm>
            <a:off x="3276720" y="6308640"/>
            <a:ext cx="19429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3"/>
          <p:cNvSpPr/>
          <p:nvPr/>
        </p:nvSpPr>
        <p:spPr>
          <a:xfrm>
            <a:off x="179280" y="6308640"/>
            <a:ext cx="24465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BI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25"/>
          <p:cNvSpPr/>
          <p:nvPr/>
        </p:nvSpPr>
        <p:spPr>
          <a:xfrm>
            <a:off x="3419640" y="191628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26"/>
          <p:cNvSpPr/>
          <p:nvPr/>
        </p:nvSpPr>
        <p:spPr>
          <a:xfrm>
            <a:off x="3419640" y="297828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27"/>
          <p:cNvSpPr/>
          <p:nvPr/>
        </p:nvSpPr>
        <p:spPr>
          <a:xfrm>
            <a:off x="4932360" y="4417920"/>
            <a:ext cx="0" cy="540000"/>
          </a:xfrm>
          <a:prstGeom prst="line">
            <a:avLst/>
          </a:prstGeom>
          <a:ln w="38160">
            <a:solidFill>
              <a:srgbClr val="bc4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28"/>
          <p:cNvSpPr/>
          <p:nvPr/>
        </p:nvSpPr>
        <p:spPr>
          <a:xfrm rot="15972600">
            <a:off x="2949120" y="3898440"/>
            <a:ext cx="801720" cy="2452680"/>
          </a:xfrm>
          <a:custGeom>
            <a:avLst/>
            <a:gdLst>
              <a:gd name="textAreaLeft" fmla="*/ 461160 w 801720"/>
              <a:gd name="textAreaRight" fmla="*/ 739800 w 801720"/>
              <a:gd name="textAreaTop" fmla="*/ 542880 h 2452680"/>
              <a:gd name="textAreaBottom" fmla="*/ 837720 h 24526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751" y="0"/>
                </a:lnTo>
                <a:lnTo>
                  <a:pt x="13751" y="4781"/>
                </a:lnTo>
                <a:lnTo>
                  <a:pt x="12427" y="4781"/>
                </a:lnTo>
                <a:cubicBezTo>
                  <a:pt x="5564" y="4781"/>
                  <a:pt x="0" y="8084"/>
                  <a:pt x="0" y="12158"/>
                </a:cubicBezTo>
                <a:lnTo>
                  <a:pt x="0" y="21600"/>
                </a:lnTo>
                <a:lnTo>
                  <a:pt x="2653" y="21600"/>
                </a:lnTo>
                <a:lnTo>
                  <a:pt x="2653" y="12158"/>
                </a:lnTo>
                <a:cubicBezTo>
                  <a:pt x="2653" y="9518"/>
                  <a:pt x="7029" y="7377"/>
                  <a:pt x="12427" y="7377"/>
                </a:cubicBezTo>
                <a:lnTo>
                  <a:pt x="13751" y="7377"/>
                </a:lnTo>
                <a:lnTo>
                  <a:pt x="13751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29"/>
          <p:cNvSpPr/>
          <p:nvPr/>
        </p:nvSpPr>
        <p:spPr>
          <a:xfrm rot="5400000">
            <a:off x="5293440" y="6284160"/>
            <a:ext cx="262080" cy="743040"/>
          </a:xfrm>
          <a:custGeom>
            <a:avLst/>
            <a:gdLst>
              <a:gd name="textAreaLeft" fmla="*/ 34920 w 262080"/>
              <a:gd name="textAreaRight" fmla="*/ 227160 w 262080"/>
              <a:gd name="textAreaTop" fmla="*/ 129960 h 743040"/>
              <a:gd name="textAreaBottom" fmla="*/ 538920 h 7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30"/>
          <p:cNvSpPr/>
          <p:nvPr/>
        </p:nvSpPr>
        <p:spPr>
          <a:xfrm flipH="1">
            <a:off x="2627280" y="6524640"/>
            <a:ext cx="504720" cy="0"/>
          </a:xfrm>
          <a:prstGeom prst="line">
            <a:avLst/>
          </a:prstGeom>
          <a:ln w="4752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31"/>
          <p:cNvSpPr/>
          <p:nvPr/>
        </p:nvSpPr>
        <p:spPr>
          <a:xfrm>
            <a:off x="8459640" y="3716280"/>
            <a:ext cx="0" cy="539640"/>
          </a:xfrm>
          <a:prstGeom prst="line">
            <a:avLst/>
          </a:prstGeom>
          <a:ln w="38160">
            <a:solidFill>
              <a:srgbClr val="bc40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32"/>
          <p:cNvSpPr/>
          <p:nvPr/>
        </p:nvSpPr>
        <p:spPr>
          <a:xfrm>
            <a:off x="8459640" y="4724280"/>
            <a:ext cx="0" cy="540000"/>
          </a:xfrm>
          <a:prstGeom prst="line">
            <a:avLst/>
          </a:prstGeom>
          <a:ln w="3816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33"/>
          <p:cNvSpPr/>
          <p:nvPr/>
        </p:nvSpPr>
        <p:spPr>
          <a:xfrm>
            <a:off x="1547640" y="5300640"/>
            <a:ext cx="19432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84d3"/>
                </a:solidFill>
                <a:latin typeface="Arial"/>
                <a:ea typeface="Arial"/>
              </a:rPr>
              <a:t>ESTERCO-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34"/>
          <p:cNvSpPr/>
          <p:nvPr/>
        </p:nvSpPr>
        <p:spPr>
          <a:xfrm rot="4645800">
            <a:off x="6338520" y="2454120"/>
            <a:ext cx="497160" cy="287280"/>
          </a:xfrm>
          <a:custGeom>
            <a:avLst/>
            <a:gdLst>
              <a:gd name="textAreaLeft" fmla="*/ 286200 w 497160"/>
              <a:gd name="textAreaRight" fmla="*/ 435600 w 497160"/>
              <a:gd name="textAreaTop" fmla="*/ 50400 h 287280"/>
              <a:gd name="textAreaBottom" fmla="*/ 110880 h 287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4438" y="0"/>
                </a:lnTo>
                <a:lnTo>
                  <a:pt x="14438" y="3808"/>
                </a:lnTo>
                <a:lnTo>
                  <a:pt x="12427" y="3808"/>
                </a:lnTo>
                <a:cubicBezTo>
                  <a:pt x="5564" y="3808"/>
                  <a:pt x="0" y="7546"/>
                  <a:pt x="0" y="12158"/>
                </a:cubicBezTo>
                <a:lnTo>
                  <a:pt x="0" y="21600"/>
                </a:lnTo>
                <a:lnTo>
                  <a:pt x="4642" y="21600"/>
                </a:lnTo>
                <a:lnTo>
                  <a:pt x="4642" y="12158"/>
                </a:lnTo>
                <a:cubicBezTo>
                  <a:pt x="4642" y="10055"/>
                  <a:pt x="8127" y="8350"/>
                  <a:pt x="12427" y="8350"/>
                </a:cubicBezTo>
                <a:lnTo>
                  <a:pt x="14438" y="8350"/>
                </a:lnTo>
                <a:lnTo>
                  <a:pt x="14438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8"/>
          <p:cNvSpPr/>
          <p:nvPr/>
        </p:nvSpPr>
        <p:spPr>
          <a:xfrm>
            <a:off x="539640" y="115920"/>
            <a:ext cx="8229600" cy="936720"/>
          </a:xfrm>
          <a:prstGeom prst="rect">
            <a:avLst/>
          </a:prstGeom>
          <a:gradFill rotWithShape="0">
            <a:gsLst>
              <a:gs pos="0">
                <a:srgbClr val="2c5176"/>
              </a:gs>
              <a:gs pos="50000">
                <a:srgbClr val="5eaeff"/>
              </a:gs>
              <a:gs pos="100000">
                <a:srgbClr val="2c51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Ictericia por Obstrucción Bili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39"/>
          <p:cNvSpPr/>
          <p:nvPr/>
        </p:nvSpPr>
        <p:spPr>
          <a:xfrm>
            <a:off x="4859280" y="4149720"/>
            <a:ext cx="863640" cy="792000"/>
          </a:xfrm>
          <a:custGeom>
            <a:avLst/>
            <a:gdLst>
              <a:gd name="textAreaLeft" fmla="*/ 126360 w 863640"/>
              <a:gd name="textAreaRight" fmla="*/ 737280 w 863640"/>
              <a:gd name="textAreaTop" fmla="*/ 115920 h 792000"/>
              <a:gd name="textAreaBottom" fmla="*/ 6760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8066" y="17346"/>
                </a:moveTo>
                <a:cubicBezTo>
                  <a:pt x="19684" y="15549"/>
                  <a:pt x="20580" y="13217"/>
                  <a:pt x="20580" y="10800"/>
                </a:cubicBezTo>
                <a:cubicBezTo>
                  <a:pt x="20580" y="5398"/>
                  <a:pt x="16201" y="1020"/>
                  <a:pt x="10800" y="1020"/>
                </a:cubicBezTo>
                <a:cubicBezTo>
                  <a:pt x="8382" y="1019"/>
                  <a:pt x="6050" y="1915"/>
                  <a:pt x="4253" y="3533"/>
                </a:cubicBezTo>
                <a:lnTo>
                  <a:pt x="18066" y="17346"/>
                </a:lnTo>
                <a:close/>
                <a:moveTo>
                  <a:pt x="3533" y="4253"/>
                </a:moveTo>
                <a:cubicBezTo>
                  <a:pt x="1915" y="6050"/>
                  <a:pt x="1020" y="8382"/>
                  <a:pt x="1020" y="10799"/>
                </a:cubicBezTo>
                <a:cubicBezTo>
                  <a:pt x="1020" y="16201"/>
                  <a:pt x="5398" y="20580"/>
                  <a:pt x="10800" y="20580"/>
                </a:cubicBezTo>
                <a:cubicBezTo>
                  <a:pt x="13217" y="20580"/>
                  <a:pt x="15549" y="19684"/>
                  <a:pt x="17346" y="18066"/>
                </a:cubicBezTo>
                <a:lnTo>
                  <a:pt x="3533" y="4253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40"/>
          <p:cNvSpPr/>
          <p:nvPr/>
        </p:nvSpPr>
        <p:spPr>
          <a:xfrm>
            <a:off x="7885080" y="4005360"/>
            <a:ext cx="720720" cy="100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3300"/>
                </a:solidFill>
                <a:latin typeface="Arial"/>
                <a:ea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41"/>
          <p:cNvSpPr/>
          <p:nvPr/>
        </p:nvSpPr>
        <p:spPr>
          <a:xfrm>
            <a:off x="8028000" y="5013360"/>
            <a:ext cx="720720" cy="100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3300"/>
                </a:solidFill>
                <a:latin typeface="Arial"/>
                <a:ea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42"/>
          <p:cNvSpPr/>
          <p:nvPr/>
        </p:nvSpPr>
        <p:spPr>
          <a:xfrm>
            <a:off x="1908000" y="5013360"/>
            <a:ext cx="721080" cy="100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3300"/>
                </a:solidFill>
                <a:latin typeface="Arial"/>
                <a:ea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3"/>
          <p:cNvSpPr/>
          <p:nvPr/>
        </p:nvSpPr>
        <p:spPr>
          <a:xfrm>
            <a:off x="3851280" y="5942160"/>
            <a:ext cx="720720" cy="100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3300"/>
                </a:solidFill>
                <a:latin typeface="Arial"/>
                <a:ea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44"/>
          <p:cNvSpPr/>
          <p:nvPr/>
        </p:nvSpPr>
        <p:spPr>
          <a:xfrm>
            <a:off x="826920" y="5942160"/>
            <a:ext cx="720720" cy="100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3300"/>
                </a:solidFill>
                <a:latin typeface="Arial"/>
                <a:ea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46" descr="AR100001"/>
          <p:cNvPicPr/>
          <p:nvPr/>
        </p:nvPicPr>
        <p:blipFill>
          <a:blip r:embed="rId1"/>
          <a:stretch/>
        </p:blipFill>
        <p:spPr>
          <a:xfrm rot="16200000">
            <a:off x="4294800" y="1834200"/>
            <a:ext cx="968400" cy="414360"/>
          </a:xfrm>
          <a:prstGeom prst="rect">
            <a:avLst/>
          </a:prstGeom>
          <a:ln w="0">
            <a:noFill/>
          </a:ln>
        </p:spPr>
      </p:pic>
      <p:sp>
        <p:nvSpPr>
          <p:cNvPr id="626" name="Text Box 47"/>
          <p:cNvSpPr/>
          <p:nvPr/>
        </p:nvSpPr>
        <p:spPr>
          <a:xfrm>
            <a:off x="4930920" y="1773360"/>
            <a:ext cx="20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  <a:ea typeface="Arial"/>
              </a:rPr>
              <a:t>BILIRRUBINA Dire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48"/>
          <p:cNvSpPr/>
          <p:nvPr/>
        </p:nvSpPr>
        <p:spPr>
          <a:xfrm>
            <a:off x="1403280" y="1844640"/>
            <a:ext cx="935280" cy="91692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4584d3"/>
                </a:solidFill>
                <a:latin typeface="Arial"/>
                <a:ea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49"/>
          <p:cNvSpPr/>
          <p:nvPr/>
        </p:nvSpPr>
        <p:spPr>
          <a:xfrm>
            <a:off x="6588000" y="1125360"/>
            <a:ext cx="2016360" cy="432000"/>
          </a:xfrm>
          <a:prstGeom prst="ellipse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rina color ca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50" descr="ARRWC220"/>
          <p:cNvPicPr/>
          <p:nvPr/>
        </p:nvPicPr>
        <p:blipFill>
          <a:blip r:embed="rId2">
            <a:lum bright="-42000"/>
          </a:blip>
          <a:stretch/>
        </p:blipFill>
        <p:spPr>
          <a:xfrm>
            <a:off x="4572000" y="2349360"/>
            <a:ext cx="86508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8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4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5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3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68360" y="2204640"/>
            <a:ext cx="8229600" cy="39495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Biosíntesis del ácido </a:t>
            </a:r>
            <a:r>
              <a:rPr b="0" lang="es-ES" sz="3200" spc="-1" strike="noStrike">
                <a:solidFill>
                  <a:srgbClr val="073e87"/>
                </a:solidFill>
                <a:latin typeface="Symbol"/>
                <a:ea typeface="Symbol"/>
              </a:rPr>
              <a:t></a:t>
            </a: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-Aminolevulínico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Formación de Porfobilinógeno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73e87"/>
                </a:solidFill>
                <a:latin typeface="Candara"/>
              </a:rPr>
              <a:t>Conversión de Porfobilinógeno en Hemo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solidFill>
            <a:srgbClr val="5eae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andara"/>
              </a:rPr>
              <a:t>En la biosíntesis del HEMO se consideran 3 etapas: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solidFill>
            <a:srgbClr val="b7cdc5"/>
          </a:solidFill>
          <a:ln w="9360">
            <a:solidFill>
              <a:srgbClr val="008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andara"/>
              </a:rPr>
              <a:t>BIOSINTESIS DE ALA              </a:t>
            </a:r>
            <a:br>
              <a:rPr sz="3600"/>
            </a:br>
            <a:r>
              <a:rPr b="0" lang="es-ES" sz="3600" spc="-1" strike="noStrike">
                <a:solidFill>
                  <a:srgbClr val="ffffff"/>
                </a:solidFill>
                <a:latin typeface="Candara"/>
              </a:rPr>
              <a:t> (Acido </a:t>
            </a:r>
            <a:r>
              <a:rPr b="0" lang="es-ES" sz="36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s-ES" sz="3600" spc="-1" strike="noStrike">
                <a:solidFill>
                  <a:srgbClr val="ffffff"/>
                </a:solidFill>
                <a:latin typeface="Candara"/>
              </a:rPr>
              <a:t>-Aminolevulínico)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43" name="Object 23"/>
          <p:cNvGraphicFramePr/>
          <p:nvPr/>
        </p:nvGraphicFramePr>
        <p:xfrm>
          <a:off x="851040" y="2646360"/>
          <a:ext cx="3533760" cy="344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2646360"/>
                    <a:ext cx="3533760" cy="34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Object 25"/>
          <p:cNvGraphicFramePr/>
          <p:nvPr/>
        </p:nvGraphicFramePr>
        <p:xfrm>
          <a:off x="5784840" y="2695680"/>
          <a:ext cx="2819520" cy="27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84840" y="2695680"/>
                    <a:ext cx="2819520" cy="27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Text Box 12"/>
          <p:cNvSpPr/>
          <p:nvPr/>
        </p:nvSpPr>
        <p:spPr>
          <a:xfrm>
            <a:off x="811080" y="5589720"/>
            <a:ext cx="1224000" cy="39888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Glic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3059280" y="4219560"/>
            <a:ext cx="1325520" cy="82548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LAS-P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4"/>
          <p:cNvSpPr/>
          <p:nvPr/>
        </p:nvSpPr>
        <p:spPr>
          <a:xfrm>
            <a:off x="2035080" y="5589720"/>
            <a:ext cx="1800360" cy="39888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uccin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5"/>
          <p:cNvSpPr/>
          <p:nvPr/>
        </p:nvSpPr>
        <p:spPr>
          <a:xfrm>
            <a:off x="3160800" y="3303720"/>
            <a:ext cx="1224000" cy="39888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A-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6"/>
          <p:cNvSpPr/>
          <p:nvPr/>
        </p:nvSpPr>
        <p:spPr>
          <a:xfrm>
            <a:off x="6588000" y="5445000"/>
            <a:ext cx="2016360" cy="520560"/>
          </a:xfrm>
          <a:prstGeom prst="rect">
            <a:avLst/>
          </a:prstGeom>
          <a:solidFill>
            <a:srgbClr val="f2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7"/>
          <p:cNvSpPr/>
          <p:nvPr/>
        </p:nvSpPr>
        <p:spPr>
          <a:xfrm>
            <a:off x="690480" y="4118040"/>
            <a:ext cx="1152720" cy="647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8"/>
          <p:cNvSpPr/>
          <p:nvPr/>
        </p:nvSpPr>
        <p:spPr>
          <a:xfrm>
            <a:off x="6012000" y="3392640"/>
            <a:ext cx="647640" cy="502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8"/>
          <p:cNvSpPr/>
          <p:nvPr/>
        </p:nvSpPr>
        <p:spPr>
          <a:xfrm rot="19913400">
            <a:off x="3636000" y="4723920"/>
            <a:ext cx="2916360" cy="82548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73e87"/>
                </a:solidFill>
                <a:latin typeface="Symbol"/>
                <a:ea typeface="Symbol"/>
              </a:rPr>
              <a:t></a:t>
            </a:r>
            <a:r>
              <a:rPr b="1" i="1" lang="es-ES" sz="2400" spc="-1" strike="noStrike">
                <a:solidFill>
                  <a:srgbClr val="073e87"/>
                </a:solidFill>
                <a:latin typeface="Arial"/>
                <a:ea typeface="Arial"/>
              </a:rPr>
              <a:t>-Aminolevulinato sin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29"/>
          <p:cNvSpPr/>
          <p:nvPr/>
        </p:nvSpPr>
        <p:spPr>
          <a:xfrm>
            <a:off x="5076720" y="6093000"/>
            <a:ext cx="3816360" cy="765000"/>
          </a:xfrm>
          <a:prstGeom prst="ellipse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C.DELT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MINO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EVULI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30"/>
          <p:cNvSpPr/>
          <p:nvPr/>
        </p:nvSpPr>
        <p:spPr>
          <a:xfrm>
            <a:off x="3635280" y="1627200"/>
            <a:ext cx="2664000" cy="1081080"/>
          </a:xfrm>
          <a:prstGeom prst="ellipse">
            <a:avLst/>
          </a:prstGeom>
          <a:solidFill>
            <a:srgbClr val="e0e9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EN MITOCOND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1"/>
          <p:cNvSpPr/>
          <p:nvPr/>
        </p:nvSpPr>
        <p:spPr>
          <a:xfrm>
            <a:off x="7067520" y="4761000"/>
            <a:ext cx="1366920" cy="6490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73e87"/>
                </a:solidFill>
                <a:latin typeface="Candara"/>
              </a:rPr>
              <a:t>Enzima  alostérica mitocondrial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73e87"/>
                </a:solidFill>
                <a:latin typeface="Candara"/>
              </a:rPr>
              <a:t>Controla la velocidad de síntesis de porfirinas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73e87"/>
                </a:solidFill>
                <a:latin typeface="Candara"/>
              </a:rPr>
              <a:t>Es inhibida por el hemo, Hemoglobina y Hemoproteínas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73e87"/>
                </a:solidFill>
                <a:latin typeface="Candara"/>
              </a:rPr>
              <a:t>Es activada por hormonas esteroides, eritropoyetina, etanol y barbituratos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73e87"/>
                </a:solidFill>
                <a:latin typeface="Candara"/>
              </a:rPr>
              <a:t>El hemo inhibe la transcripción de la enzim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solidFill>
            <a:srgbClr val="5eae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ndara"/>
              </a:rPr>
              <a:t>ALA SINTAS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gradFill rotWithShape="0">
            <a:gsLst>
              <a:gs pos="0">
                <a:srgbClr val="2c5176"/>
              </a:gs>
              <a:gs pos="50000">
                <a:srgbClr val="5eaeff"/>
              </a:gs>
              <a:gs pos="100000">
                <a:srgbClr val="2c51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ndara"/>
              </a:rPr>
              <a:t>BIOSINTESIS DE PORFOBILINOGENO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61" name="Object 9"/>
          <p:cNvGraphicFramePr/>
          <p:nvPr/>
        </p:nvGraphicFramePr>
        <p:xfrm>
          <a:off x="34920" y="1600200"/>
          <a:ext cx="3687840" cy="413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600200"/>
                    <a:ext cx="3687840" cy="41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Text Box 7"/>
          <p:cNvSpPr/>
          <p:nvPr/>
        </p:nvSpPr>
        <p:spPr>
          <a:xfrm>
            <a:off x="3492360" y="4292640"/>
            <a:ext cx="2160720" cy="703800"/>
          </a:xfrm>
          <a:prstGeom prst="rect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orfobilinógeno sin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8"/>
          <p:cNvSpPr/>
          <p:nvPr/>
        </p:nvSpPr>
        <p:spPr>
          <a:xfrm>
            <a:off x="971640" y="5805360"/>
            <a:ext cx="727236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zima sensible al envenenamiento por metales pes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15"/>
          <p:cNvGrpSpPr/>
          <p:nvPr/>
        </p:nvGrpSpPr>
        <p:grpSpPr>
          <a:xfrm>
            <a:off x="5691240" y="1989000"/>
            <a:ext cx="3452760" cy="3628440"/>
            <a:chOff x="5691240" y="1989000"/>
            <a:chExt cx="3452760" cy="3628440"/>
          </a:xfrm>
        </p:grpSpPr>
        <p:graphicFrame>
          <p:nvGraphicFramePr>
            <p:cNvPr id="366" name="Object 11"/>
            <p:cNvGraphicFramePr/>
            <p:nvPr/>
          </p:nvGraphicFramePr>
          <p:xfrm>
            <a:off x="5691240" y="1989000"/>
            <a:ext cx="3452760" cy="3287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67" name="Object 1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691240" y="1989000"/>
                      <a:ext cx="3452760" cy="328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8" name="Text Box 5"/>
            <p:cNvSpPr/>
            <p:nvPr/>
          </p:nvSpPr>
          <p:spPr>
            <a:xfrm>
              <a:off x="5796000" y="5157720"/>
              <a:ext cx="3097080" cy="459720"/>
            </a:xfrm>
            <a:prstGeom prst="rect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fobilinóge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AutoShape 13"/>
          <p:cNvSpPr/>
          <p:nvPr/>
        </p:nvSpPr>
        <p:spPr>
          <a:xfrm>
            <a:off x="3780000" y="3716280"/>
            <a:ext cx="2016000" cy="289080"/>
          </a:xfrm>
          <a:prstGeom prst="rightArrow">
            <a:avLst>
              <a:gd name="adj1" fmla="val 50000"/>
              <a:gd name="adj2" fmla="val 17434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14"/>
          <p:cNvSpPr/>
          <p:nvPr/>
        </p:nvSpPr>
        <p:spPr>
          <a:xfrm>
            <a:off x="3635280" y="1413000"/>
            <a:ext cx="2664000" cy="1081080"/>
          </a:xfrm>
          <a:prstGeom prst="ellipse">
            <a:avLst/>
          </a:prstGeom>
          <a:solidFill>
            <a:srgbClr val="e0e9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EN CITO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50680"/>
          </a:xfrm>
          <a:prstGeom prst="rect">
            <a:avLst/>
          </a:prstGeom>
          <a:gradFill rotWithShape="0">
            <a:gsLst>
              <a:gs pos="0">
                <a:srgbClr val="2c5176"/>
              </a:gs>
              <a:gs pos="50000">
                <a:srgbClr val="5eaeff"/>
              </a:gs>
              <a:gs pos="100000">
                <a:srgbClr val="2c517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andara"/>
              </a:rPr>
              <a:t>FORMACION DE PORFIRINA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grpSp>
        <p:nvGrpSpPr>
          <p:cNvPr id="372" name="Group 5"/>
          <p:cNvGrpSpPr/>
          <p:nvPr/>
        </p:nvGrpSpPr>
        <p:grpSpPr>
          <a:xfrm>
            <a:off x="250920" y="2717640"/>
            <a:ext cx="3452760" cy="3628440"/>
            <a:chOff x="250920" y="2717640"/>
            <a:chExt cx="3452760" cy="3628440"/>
          </a:xfrm>
        </p:grpSpPr>
        <p:graphicFrame>
          <p:nvGraphicFramePr>
            <p:cNvPr id="373" name="Object 2"/>
            <p:cNvGraphicFramePr/>
            <p:nvPr/>
          </p:nvGraphicFramePr>
          <p:xfrm>
            <a:off x="250920" y="2717640"/>
            <a:ext cx="3452760" cy="328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4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0920" y="2717640"/>
                      <a:ext cx="3452760" cy="328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5" name="Text Box 7"/>
            <p:cNvSpPr/>
            <p:nvPr/>
          </p:nvSpPr>
          <p:spPr>
            <a:xfrm>
              <a:off x="355680" y="5886360"/>
              <a:ext cx="3097080" cy="459720"/>
            </a:xfrm>
            <a:prstGeom prst="rect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fobilinóge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Rectangle 8"/>
          <p:cNvSpPr/>
          <p:nvPr/>
        </p:nvSpPr>
        <p:spPr>
          <a:xfrm>
            <a:off x="179280" y="3797280"/>
            <a:ext cx="577800" cy="792360"/>
          </a:xfrm>
          <a:prstGeom prst="rect">
            <a:avLst/>
          </a:prstGeom>
          <a:solidFill>
            <a:srgbClr val="e0e9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9"/>
          <p:cNvSpPr/>
          <p:nvPr/>
        </p:nvSpPr>
        <p:spPr>
          <a:xfrm>
            <a:off x="3708360" y="4591080"/>
            <a:ext cx="10810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0"/>
          <p:cNvSpPr/>
          <p:nvPr/>
        </p:nvSpPr>
        <p:spPr>
          <a:xfrm>
            <a:off x="5003640" y="4157640"/>
            <a:ext cx="3095640" cy="1015920"/>
          </a:xfrm>
          <a:prstGeom prst="rect">
            <a:avLst/>
          </a:prstGeom>
          <a:solidFill>
            <a:srgbClr val="e0e92d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ANI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TETRAPIRRO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1"/>
          <p:cNvSpPr/>
          <p:nvPr/>
        </p:nvSpPr>
        <p:spPr>
          <a:xfrm>
            <a:off x="3959280" y="5742000"/>
            <a:ext cx="5184720" cy="745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. Se elimina el grupo N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 de la cadena lateral y se forman puentes metile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17"/>
          <p:cNvGrpSpPr/>
          <p:nvPr/>
        </p:nvGrpSpPr>
        <p:grpSpPr>
          <a:xfrm>
            <a:off x="200520" y="1616040"/>
            <a:ext cx="1536840" cy="1828440"/>
            <a:chOff x="200520" y="1616040"/>
            <a:chExt cx="1536840" cy="1828440"/>
          </a:xfrm>
        </p:grpSpPr>
        <p:sp>
          <p:nvSpPr>
            <p:cNvPr id="381" name="Oval 12"/>
            <p:cNvSpPr/>
            <p:nvPr/>
          </p:nvSpPr>
          <p:spPr>
            <a:xfrm rot="21075000">
              <a:off x="285480" y="1712520"/>
              <a:ext cx="1366560" cy="1223640"/>
            </a:xfrm>
            <a:prstGeom prst="ellipse">
              <a:avLst/>
            </a:prstGeom>
            <a:solidFill>
              <a:srgbClr val="eab4e2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UP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ET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14"/>
            <p:cNvSpPr/>
            <p:nvPr/>
          </p:nvSpPr>
          <p:spPr>
            <a:xfrm rot="21075000">
              <a:off x="992880" y="2926080"/>
              <a:ext cx="215640" cy="504720"/>
            </a:xfrm>
            <a:prstGeom prst="downArrow">
              <a:avLst>
                <a:gd name="adj1" fmla="val 50000"/>
                <a:gd name="adj2" fmla="val 58514"/>
              </a:avLst>
            </a:prstGeom>
            <a:solidFill>
              <a:srgbClr val="eab4e2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16"/>
          <p:cNvGrpSpPr/>
          <p:nvPr/>
        </p:nvGrpSpPr>
        <p:grpSpPr>
          <a:xfrm>
            <a:off x="1774800" y="1153440"/>
            <a:ext cx="1594080" cy="1856880"/>
            <a:chOff x="1774800" y="1153440"/>
            <a:chExt cx="1594080" cy="1856880"/>
          </a:xfrm>
        </p:grpSpPr>
        <p:sp>
          <p:nvSpPr>
            <p:cNvPr id="384" name="Oval 13"/>
            <p:cNvSpPr/>
            <p:nvPr/>
          </p:nvSpPr>
          <p:spPr>
            <a:xfrm rot="730200">
              <a:off x="1888200" y="1283400"/>
              <a:ext cx="1366560" cy="1224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UP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IL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15"/>
            <p:cNvSpPr/>
            <p:nvPr/>
          </p:nvSpPr>
          <p:spPr>
            <a:xfrm rot="730200">
              <a:off x="2282040" y="2488320"/>
              <a:ext cx="215640" cy="504720"/>
            </a:xfrm>
            <a:prstGeom prst="downArrow">
              <a:avLst>
                <a:gd name="adj1" fmla="val 50000"/>
                <a:gd name="adj2" fmla="val 58514"/>
              </a:avLst>
            </a:prstGeom>
            <a:solidFill>
              <a:srgbClr val="00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gradFill rotWithShape="0">
            <a:gsLst>
              <a:gs pos="0">
                <a:srgbClr val="2c5176"/>
              </a:gs>
              <a:gs pos="50000">
                <a:srgbClr val="5eaeff"/>
              </a:gs>
              <a:gs pos="100000">
                <a:srgbClr val="2c517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andara"/>
              </a:rPr>
              <a:t>SINTESIS DE PROTOFORFIRINA III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7" name="Oval 5"/>
          <p:cNvSpPr/>
          <p:nvPr/>
        </p:nvSpPr>
        <p:spPr>
          <a:xfrm>
            <a:off x="324000" y="1709640"/>
            <a:ext cx="1366560" cy="1224000"/>
          </a:xfrm>
          <a:prstGeom prst="ellipse">
            <a:avLst/>
          </a:prstGeom>
          <a:solidFill>
            <a:srgbClr val="eab4e2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GRU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ACET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8"/>
          <p:cNvSpPr/>
          <p:nvPr/>
        </p:nvSpPr>
        <p:spPr>
          <a:xfrm>
            <a:off x="324000" y="4292640"/>
            <a:ext cx="1366560" cy="1224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GRU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PROPI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1"/>
          <p:cNvSpPr/>
          <p:nvPr/>
        </p:nvSpPr>
        <p:spPr>
          <a:xfrm>
            <a:off x="2916360" y="1773360"/>
            <a:ext cx="1366560" cy="1224000"/>
          </a:xfrm>
          <a:prstGeom prst="ellipse">
            <a:avLst/>
          </a:prstGeom>
          <a:solidFill>
            <a:srgbClr val="eab4e2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GRU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METI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5"/>
          <p:cNvGrpSpPr/>
          <p:nvPr/>
        </p:nvGrpSpPr>
        <p:grpSpPr>
          <a:xfrm>
            <a:off x="1332000" y="2349360"/>
            <a:ext cx="1511280" cy="1224000"/>
            <a:chOff x="1332000" y="2349360"/>
            <a:chExt cx="1511280" cy="1224000"/>
          </a:xfrm>
        </p:grpSpPr>
        <p:sp>
          <p:nvSpPr>
            <p:cNvPr id="391" name="AutoShape 12"/>
            <p:cNvSpPr/>
            <p:nvPr/>
          </p:nvSpPr>
          <p:spPr>
            <a:xfrm rot="3535200">
              <a:off x="1870920" y="2529720"/>
              <a:ext cx="504720" cy="287280"/>
            </a:xfrm>
            <a:custGeom>
              <a:avLst/>
              <a:gdLst>
                <a:gd name="textAreaLeft" fmla="*/ 88200 w 504720"/>
                <a:gd name="textAreaRight" fmla="*/ 366120 w 50472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10"/>
            <p:cNvSpPr/>
            <p:nvPr/>
          </p:nvSpPr>
          <p:spPr>
            <a:xfrm>
              <a:off x="1835280" y="2349360"/>
              <a:ext cx="1008000" cy="358920"/>
            </a:xfrm>
            <a:prstGeom prst="rightArrow">
              <a:avLst>
                <a:gd name="adj1" fmla="val 50000"/>
                <a:gd name="adj2" fmla="val 70211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3"/>
            <p:cNvSpPr/>
            <p:nvPr/>
          </p:nvSpPr>
          <p:spPr>
            <a:xfrm>
              <a:off x="1763640" y="2997360"/>
              <a:ext cx="720720" cy="576000"/>
            </a:xfrm>
            <a:prstGeom prst="ellipse">
              <a:avLst/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4"/>
            <p:cNvSpPr/>
            <p:nvPr/>
          </p:nvSpPr>
          <p:spPr>
            <a:xfrm>
              <a:off x="1332000" y="3141720"/>
              <a:ext cx="36036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AutoShape 17"/>
          <p:cNvSpPr/>
          <p:nvPr/>
        </p:nvSpPr>
        <p:spPr>
          <a:xfrm rot="3535200">
            <a:off x="1957320" y="5052960"/>
            <a:ext cx="565200" cy="355680"/>
          </a:xfrm>
          <a:custGeom>
            <a:avLst/>
            <a:gdLst>
              <a:gd name="textAreaLeft" fmla="*/ 98640 w 565200"/>
              <a:gd name="textAreaRight" fmla="*/ 409680 w 565200"/>
              <a:gd name="textAreaTop" fmla="*/ 47520 h 355680"/>
              <a:gd name="textAreaBottom" fmla="*/ 308160 h 355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8"/>
          <p:cNvSpPr/>
          <p:nvPr/>
        </p:nvSpPr>
        <p:spPr>
          <a:xfrm>
            <a:off x="1882800" y="4869000"/>
            <a:ext cx="1249200" cy="401400"/>
          </a:xfrm>
          <a:prstGeom prst="rightArrow">
            <a:avLst>
              <a:gd name="adj1" fmla="val 50000"/>
              <a:gd name="adj2" fmla="val 77803"/>
            </a:avLst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19"/>
          <p:cNvSpPr/>
          <p:nvPr/>
        </p:nvSpPr>
        <p:spPr>
          <a:xfrm>
            <a:off x="1692360" y="5661000"/>
            <a:ext cx="3024000" cy="792360"/>
          </a:xfrm>
          <a:prstGeom prst="ellipse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CO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 y OXI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0"/>
          <p:cNvSpPr/>
          <p:nvPr/>
        </p:nvSpPr>
        <p:spPr>
          <a:xfrm>
            <a:off x="1258920" y="5754600"/>
            <a:ext cx="44604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21"/>
          <p:cNvSpPr/>
          <p:nvPr/>
        </p:nvSpPr>
        <p:spPr>
          <a:xfrm>
            <a:off x="3492360" y="4365720"/>
            <a:ext cx="1366920" cy="1224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GRU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VINI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22" descr="BIOSINTESIS DEL HEM"/>
          <p:cNvPicPr/>
          <p:nvPr/>
        </p:nvPicPr>
        <p:blipFill>
          <a:blip r:embed="rId1"/>
          <a:srcRect l="56118" t="74599" r="-3902" b="0"/>
          <a:stretch/>
        </p:blipFill>
        <p:spPr>
          <a:xfrm>
            <a:off x="5148360" y="1628640"/>
            <a:ext cx="363528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5" descr="BIOSINTESIS DEL HEM"/>
          <p:cNvPicPr/>
          <p:nvPr/>
        </p:nvPicPr>
        <p:blipFill>
          <a:blip r:embed="rId1"/>
          <a:srcRect l="56118" t="41739" r="-3902" b="31177"/>
          <a:stretch/>
        </p:blipFill>
        <p:spPr>
          <a:xfrm>
            <a:off x="5329080" y="1916280"/>
            <a:ext cx="4067280" cy="3795480"/>
          </a:xfrm>
          <a:prstGeom prst="rect">
            <a:avLst/>
          </a:prstGeom>
          <a:ln w="0">
            <a:noFill/>
          </a:ln>
        </p:spPr>
      </p:pic>
      <p:grpSp>
        <p:nvGrpSpPr>
          <p:cNvPr id="402" name="9 Grupo"/>
          <p:cNvGrpSpPr/>
          <p:nvPr/>
        </p:nvGrpSpPr>
        <p:grpSpPr>
          <a:xfrm>
            <a:off x="108000" y="1916280"/>
            <a:ext cx="3635280" cy="4098240"/>
            <a:chOff x="108000" y="1916280"/>
            <a:chExt cx="3635280" cy="4098240"/>
          </a:xfrm>
        </p:grpSpPr>
        <p:pic>
          <p:nvPicPr>
            <p:cNvPr id="403" name="Picture 4" descr="BIOSINTESIS DEL HEM"/>
            <p:cNvPicPr/>
            <p:nvPr/>
          </p:nvPicPr>
          <p:blipFill>
            <a:blip r:embed="rId2"/>
            <a:srcRect l="56118" t="74599" r="-3902" b="0"/>
            <a:stretch/>
          </p:blipFill>
          <p:spPr>
            <a:xfrm>
              <a:off x="108000" y="1916280"/>
              <a:ext cx="3635280" cy="38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Text Box 6"/>
            <p:cNvSpPr/>
            <p:nvPr/>
          </p:nvSpPr>
          <p:spPr>
            <a:xfrm>
              <a:off x="250560" y="5554800"/>
              <a:ext cx="3097080" cy="459720"/>
            </a:xfrm>
            <a:prstGeom prst="rect">
              <a:avLst/>
            </a:prstGeom>
            <a:solidFill>
              <a:srgbClr val="f2f6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toporfirina I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Text Box 7"/>
          <p:cNvSpPr/>
          <p:nvPr/>
        </p:nvSpPr>
        <p:spPr>
          <a:xfrm>
            <a:off x="6156360" y="5373720"/>
            <a:ext cx="2160720" cy="459720"/>
          </a:xfrm>
          <a:prstGeom prst="rect">
            <a:avLst/>
          </a:prstGeom>
          <a:solidFill>
            <a:srgbClr val="f2f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H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8" descr="AR100001"/>
          <p:cNvPicPr/>
          <p:nvPr/>
        </p:nvPicPr>
        <p:blipFill>
          <a:blip r:embed="rId3"/>
          <a:stretch/>
        </p:blipFill>
        <p:spPr>
          <a:xfrm>
            <a:off x="3564000" y="3789360"/>
            <a:ext cx="1704960" cy="53172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9"/>
          <p:cNvSpPr/>
          <p:nvPr/>
        </p:nvSpPr>
        <p:spPr>
          <a:xfrm rot="18481200">
            <a:off x="3514680" y="2611080"/>
            <a:ext cx="2195280" cy="368280"/>
          </a:xfrm>
          <a:prstGeom prst="rect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Ferroquela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0"/>
          <p:cNvSpPr/>
          <p:nvPr/>
        </p:nvSpPr>
        <p:spPr>
          <a:xfrm>
            <a:off x="3995640" y="5157720"/>
            <a:ext cx="93672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  <a:ea typeface="Arial"/>
              </a:rPr>
              <a:t>Fe</a:t>
            </a:r>
            <a:r>
              <a:rPr b="1" lang="es-ES" sz="20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11" descr="ARRWC064"/>
          <p:cNvPicPr/>
          <p:nvPr/>
        </p:nvPicPr>
        <p:blipFill>
          <a:blip r:embed="rId4"/>
          <a:stretch/>
        </p:blipFill>
        <p:spPr>
          <a:xfrm rot="20125800">
            <a:off x="3630600" y="4224240"/>
            <a:ext cx="70812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8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4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20:56:51Z</dcterms:created>
  <dc:creator>Irma</dc:creator>
  <dc:description/>
  <dc:language>en-US</dc:language>
  <cp:lastModifiedBy>ethel</cp:lastModifiedBy>
  <dcterms:modified xsi:type="dcterms:W3CDTF">2014-10-22T01:42:03Z</dcterms:modified>
  <cp:revision>91</cp:revision>
  <dc:subject/>
  <dc:title>Diapositiva 1</dc:title>
</cp:coreProperties>
</file>